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4583113" cy="6807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13F-9016-411B-96A4-276E2F59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253A-57AC-4321-A5DF-70F409B1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0FD-6631-4114-BA24-DB7CD4BF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4D5-F38D-4BDF-9D2F-48604DF7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987-2ED5-4C49-81C0-3B01C5CE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D60F-BA36-4C48-B204-5F73F335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5AC-DBD4-45CC-A40B-3B316C6A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699-630F-474A-8563-A04ED711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E05-C3C0-4ADE-AD88-D0015628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E259-57E3-4E8D-BE89-9EB89A96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82A9-7710-4DCF-93A8-DE923A98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4A6-ADD8-4735-B675-5E8B9E19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A015-B583-4FC7-BACD-7AC2571EB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5.xml"/><Relationship Id="rId12" Type="http://schemas.openxmlformats.org/officeDocument/2006/relationships/slide" Target="slide15.xml"/><Relationship Id="rId13" Type="http://schemas.openxmlformats.org/officeDocument/2006/relationships/slide" Target="slide15.xml"/><Relationship Id="rId14" Type="http://schemas.openxmlformats.org/officeDocument/2006/relationships/slide" Target="slide15.xml"/><Relationship Id="rId15" Type="http://schemas.openxmlformats.org/officeDocument/2006/relationships/slide" Target="slide15.xml"/><Relationship Id="rId16" Type="http://schemas.openxmlformats.org/officeDocument/2006/relationships/slide" Target="slide15.xml"/><Relationship Id="rId17" Type="http://schemas.openxmlformats.org/officeDocument/2006/relationships/slide" Target="slide18.xml"/><Relationship Id="rId18" Type="http://schemas.openxmlformats.org/officeDocument/2006/relationships/slide" Target="slide18.xml"/><Relationship Id="rId19" Type="http://schemas.openxmlformats.org/officeDocument/2006/relationships/slide" Target="slide18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5.xml"/><Relationship Id="rId25" Type="http://schemas.openxmlformats.org/officeDocument/2006/relationships/slide" Target="slide19.xml"/><Relationship Id="rId26" Type="http://schemas.openxmlformats.org/officeDocument/2006/relationships/slide" Target="slide15.xml"/><Relationship Id="rId27" Type="http://schemas.openxmlformats.org/officeDocument/2006/relationships/slide" Target="slide15.xml"/><Relationship Id="rId28" Type="http://schemas.openxmlformats.org/officeDocument/2006/relationships/slide" Target="slide15.xml"/><Relationship Id="rId29" Type="http://schemas.openxmlformats.org/officeDocument/2006/relationships/slide" Target="slide18.xml"/><Relationship Id="rId30" Type="http://schemas.openxmlformats.org/officeDocument/2006/relationships/slide" Target="slide21.xml"/><Relationship Id="rId31" Type="http://schemas.openxmlformats.org/officeDocument/2006/relationships/slide" Target="slide21.xml"/><Relationship Id="rId32" Type="http://schemas.openxmlformats.org/officeDocument/2006/relationships/slide" Target="slide21.xml"/><Relationship Id="rId33" Type="http://schemas.openxmlformats.org/officeDocument/2006/relationships/slide" Target="slide21.xml"/><Relationship Id="rId34" Type="http://schemas.openxmlformats.org/officeDocument/2006/relationships/slide" Target="slide21.xml"/><Relationship Id="rId35" Type="http://schemas.openxmlformats.org/officeDocument/2006/relationships/slide" Target="slide13.xml"/><Relationship Id="rId36" Type="http://schemas.openxmlformats.org/officeDocument/2006/relationships/slide" Target="slide21.xml"/><Relationship Id="rId37" Type="http://schemas.openxmlformats.org/officeDocument/2006/relationships/slide" Target="slide21.xml"/><Relationship Id="rId38" Type="http://schemas.openxmlformats.org/officeDocument/2006/relationships/slide" Target="slide21.xml"/><Relationship Id="rId39" Type="http://schemas.openxmlformats.org/officeDocument/2006/relationships/slide" Target="slide21.xml"/><Relationship Id="rId40" Type="http://schemas.openxmlformats.org/officeDocument/2006/relationships/slide" Target="slide21.xml"/><Relationship Id="rId41" Type="http://schemas.openxmlformats.org/officeDocument/2006/relationships/slide" Target="slide21.xml"/><Relationship Id="rId42" Type="http://schemas.openxmlformats.org/officeDocument/2006/relationships/slide" Target="slide21.xml"/><Relationship Id="rId43" Type="http://schemas.openxmlformats.org/officeDocument/2006/relationships/slide" Target="slide21.xml"/><Relationship Id="rId44" Type="http://schemas.openxmlformats.org/officeDocument/2006/relationships/slide" Target="slide21.xml"/><Relationship Id="rId45" Type="http://schemas.openxmlformats.org/officeDocument/2006/relationships/slide" Target="slide21.xml"/><Relationship Id="rId46" Type="http://schemas.openxmlformats.org/officeDocument/2006/relationships/slide" Target="slide13.xml"/><Relationship Id="rId47" Type="http://schemas.openxmlformats.org/officeDocument/2006/relationships/slide" Target="slide21.xml"/><Relationship Id="rId48" Type="http://schemas.openxmlformats.org/officeDocument/2006/relationships/slide" Target="slide21.xml"/><Relationship Id="rId49" Type="http://schemas.openxmlformats.org/officeDocument/2006/relationships/slide" Target="slide21.xml"/><Relationship Id="rId50" Type="http://schemas.openxmlformats.org/officeDocument/2006/relationships/slide" Target="slide21.xml"/><Relationship Id="rId51" Type="http://schemas.openxmlformats.org/officeDocument/2006/relationships/slide" Target="slide21.xml"/><Relationship Id="rId52" Type="http://schemas.openxmlformats.org/officeDocument/2006/relationships/slide" Target="slide14.xml"/><Relationship Id="rId53" Type="http://schemas.openxmlformats.org/officeDocument/2006/relationships/slide" Target="slide14.xml"/><Relationship Id="rId5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0840" y="2311560"/>
            <a:ext cx="8280360" cy="2307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СТАТИЧЕС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НЕОПРЕДЕЛИМ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227160"/>
            <a:ext cx="828036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С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ТРОИТЕЛЬНАЯ МЕХА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Ч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асть </a:t>
            </a:r>
            <a:r>
              <a:rPr b="1" lang="en-US" sz="5400" spc="-1" strike="noStrike">
                <a:solidFill>
                  <a:srgbClr val="333399"/>
                </a:solidFill>
                <a:latin typeface="New_Zelek"/>
              </a:rPr>
              <a:t>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417240" y="176040"/>
            <a:ext cx="405000" cy="668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371520"/>
            <a:ext cx="28728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ВГ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6160" y="4645080"/>
            <a:ext cx="878508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Расчёт деформируемых сист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методом перемещ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5873760"/>
            <a:ext cx="719280" cy="7192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72120" y="5832360"/>
            <a:ext cx="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МАТРИЧНОЙ ФОРМЕ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114560" y="981000"/>
            <a:ext cx="68421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ределение реакций связей в ОСМП   к и н е м а т и ч е с к и м    м е т о д о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908000" y="1374840"/>
            <a:ext cx="5256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через работу концевых усилий и узловых нагру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4780080" y="1557360"/>
                <a:ext cx="2163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25" name=""/>
          <p:cNvSpPr/>
          <p:nvPr/>
        </p:nvSpPr>
        <p:spPr>
          <a:xfrm>
            <a:off x="2370240" y="1676520"/>
            <a:ext cx="2448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казательство теор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130400" y="2529000"/>
            <a:ext cx="2090520" cy="1054080"/>
          </a:xfrm>
          <a:custGeom>
            <a:avLst/>
            <a:gdLst/>
            <a:ahLst/>
            <a:rect l="l" t="t" r="r" b="b"/>
            <a:pathLst>
              <a:path w="1317" h="664">
                <a:moveTo>
                  <a:pt x="0" y="0"/>
                </a:moveTo>
                <a:lnTo>
                  <a:pt x="1317" y="66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2114640" y="2627280"/>
            <a:ext cx="7776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11280" y="3035160"/>
            <a:ext cx="36720" cy="1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549520" y="3071880"/>
            <a:ext cx="3636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700360" y="3112920"/>
            <a:ext cx="17280" cy="19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838600" y="31971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2979360" y="3313080"/>
            <a:ext cx="2556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406600" y="3035160"/>
            <a:ext cx="598680" cy="281160"/>
          </a:xfrm>
          <a:custGeom>
            <a:avLst/>
            <a:gdLst/>
            <a:ahLst/>
            <a:rect l="l" t="t" r="r" b="b"/>
            <a:pathLst>
              <a:path w="377" h="234">
                <a:moveTo>
                  <a:pt x="0" y="0"/>
                </a:moveTo>
                <a:cubicBezTo>
                  <a:pt x="16" y="4"/>
                  <a:pt x="66" y="12"/>
                  <a:pt x="97" y="22"/>
                </a:cubicBezTo>
                <a:cubicBezTo>
                  <a:pt x="128" y="32"/>
                  <a:pt x="158" y="41"/>
                  <a:pt x="189" y="58"/>
                </a:cubicBezTo>
                <a:cubicBezTo>
                  <a:pt x="220" y="75"/>
                  <a:pt x="250" y="97"/>
                  <a:pt x="281" y="126"/>
                </a:cubicBezTo>
                <a:cubicBezTo>
                  <a:pt x="312" y="155"/>
                  <a:pt x="357" y="212"/>
                  <a:pt x="377" y="23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133720" y="2479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598840" y="2755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017800" y="3108240"/>
            <a:ext cx="287280" cy="28908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7046400">
            <a:off x="2602440" y="2100600"/>
            <a:ext cx="214200" cy="1133640"/>
          </a:xfrm>
          <a:custGeom>
            <a:avLst/>
            <a:gdLst>
              <a:gd name="textAreaLeft" fmla="*/ 136800 w 214200"/>
              <a:gd name="textAreaRight" fmla="*/ 214560 w 21420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rot="1570800">
            <a:off x="2280960" y="2197080"/>
            <a:ext cx="109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неузловые 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050920" y="3043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63560" y="345924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666800" y="34606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87440" y="3616200"/>
            <a:ext cx="1150920" cy="863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835200" y="38210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658880" y="389880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679400" y="3890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98600" y="4460760"/>
            <a:ext cx="1150920" cy="43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77720" y="4502160"/>
            <a:ext cx="12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мещени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663560" y="434196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711440" y="43178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251080" y="389880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259000" y="38577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066760" y="3506760"/>
            <a:ext cx="144720" cy="1224000"/>
          </a:xfrm>
          <a:custGeom>
            <a:avLst/>
            <a:gdLst>
              <a:gd name="textAreaLeft" fmla="*/ 0 w 144720"/>
              <a:gd name="textAreaRight" fmla="*/ 5220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319720" y="2881440"/>
            <a:ext cx="2046240" cy="1035000"/>
          </a:xfrm>
          <a:custGeom>
            <a:avLst/>
            <a:gdLst/>
            <a:ahLst/>
            <a:rect l="l" t="t" r="r" b="b"/>
            <a:pathLst>
              <a:path w="1289" h="652">
                <a:moveTo>
                  <a:pt x="0" y="0"/>
                </a:moveTo>
                <a:lnTo>
                  <a:pt x="1289" y="652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404040" y="3359160"/>
            <a:ext cx="287280" cy="28908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383080" y="2440080"/>
            <a:ext cx="2349720" cy="1873080"/>
          </a:xfrm>
          <a:custGeom>
            <a:avLst/>
            <a:gdLst/>
            <a:ahLst/>
            <a:rect l="l" t="t" r="r" b="b"/>
            <a:pathLst>
              <a:path w="1480" h="1180">
                <a:moveTo>
                  <a:pt x="0" y="0"/>
                </a:moveTo>
                <a:cubicBezTo>
                  <a:pt x="19" y="28"/>
                  <a:pt x="73" y="116"/>
                  <a:pt x="116" y="168"/>
                </a:cubicBezTo>
                <a:cubicBezTo>
                  <a:pt x="159" y="220"/>
                  <a:pt x="197" y="265"/>
                  <a:pt x="260" y="312"/>
                </a:cubicBezTo>
                <a:cubicBezTo>
                  <a:pt x="323" y="359"/>
                  <a:pt x="391" y="403"/>
                  <a:pt x="496" y="452"/>
                </a:cubicBezTo>
                <a:cubicBezTo>
                  <a:pt x="601" y="501"/>
                  <a:pt x="778" y="557"/>
                  <a:pt x="888" y="608"/>
                </a:cubicBezTo>
                <a:cubicBezTo>
                  <a:pt x="998" y="659"/>
                  <a:pt x="1080" y="703"/>
                  <a:pt x="1156" y="760"/>
                </a:cubicBezTo>
                <a:cubicBezTo>
                  <a:pt x="1232" y="817"/>
                  <a:pt x="1290" y="878"/>
                  <a:pt x="1344" y="948"/>
                </a:cubicBezTo>
                <a:cubicBezTo>
                  <a:pt x="1398" y="1018"/>
                  <a:pt x="1452" y="1132"/>
                  <a:pt x="1480" y="11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432480" y="3278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010200" y="367992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056280" y="36338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629240" y="3573360"/>
            <a:ext cx="15843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иртуаль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возмож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мещ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081240" y="4425840"/>
            <a:ext cx="3672000" cy="51012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3917880" y="4441680"/>
                <a:ext cx="272088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4356000" y="4819680"/>
                <a:ext cx="3310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4124160" y="5489640"/>
                <a:ext cx="20973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5303880" y="285588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318280" y="2463840"/>
            <a:ext cx="54000" cy="39528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34120" y="2513160"/>
            <a:ext cx="166680" cy="339480"/>
          </a:xfrm>
          <a:custGeom>
            <a:avLst/>
            <a:gdLst/>
            <a:ahLst/>
            <a:rect l="l" t="t" r="r" b="b"/>
            <a:pathLst>
              <a:path w="105" h="214">
                <a:moveTo>
                  <a:pt x="0" y="214"/>
                </a:moveTo>
                <a:lnTo>
                  <a:pt x="105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H="1" flipV="1">
            <a:off x="5187600" y="2801880"/>
            <a:ext cx="119160" cy="61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5194440" y="2449440"/>
            <a:ext cx="179280" cy="3603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378400" y="2443320"/>
            <a:ext cx="125640" cy="6192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064120" y="224640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013360" y="271764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557680" y="222876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5502240" y="2455920"/>
            <a:ext cx="125280" cy="54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 flipV="1">
            <a:off x="5468400" y="2488680"/>
            <a:ext cx="37332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 flipV="1">
            <a:off x="5384880" y="2475000"/>
            <a:ext cx="216000" cy="45072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584680" y="2657520"/>
            <a:ext cx="209520" cy="22212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672160" y="261468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396200" y="3935520"/>
            <a:ext cx="93492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362720" y="3903840"/>
            <a:ext cx="367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396200" y="3943440"/>
            <a:ext cx="323640" cy="37764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396200" y="3930480"/>
            <a:ext cx="420480" cy="227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7295760" y="3936960"/>
            <a:ext cx="73080" cy="154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296120" y="4087800"/>
            <a:ext cx="420840" cy="2271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7730640" y="4159080"/>
            <a:ext cx="71640" cy="14472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704000" y="405612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724880" y="384660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062840" y="394956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947000" y="448308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7730640" y="4316040"/>
            <a:ext cx="37332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 flipV="1">
            <a:off x="7721280" y="4302000"/>
            <a:ext cx="198360" cy="39528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905600" y="4492800"/>
            <a:ext cx="179640" cy="17928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5383080" y="2201400"/>
            <a:ext cx="119160" cy="23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8278920" y="424008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375160" y="18939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96760" y="24843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 flipV="1">
            <a:off x="654120" y="2276640"/>
            <a:ext cx="449280" cy="23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1087560" y="2244240"/>
            <a:ext cx="14580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rot="17520000">
            <a:off x="816840" y="2276280"/>
            <a:ext cx="433080" cy="4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4" y="8426"/>
                </a:moveTo>
                <a:arcTo wR="10800" hR="10800" stAng="-10038120" swAng="10274913"/>
                <a:lnTo>
                  <a:pt x="10800" y="10800"/>
                </a:lnTo>
                <a:close/>
              </a:path>
              <a:path fill="none" w="21600" h="21600">
                <a:moveTo>
                  <a:pt x="264" y="8426"/>
                </a:moveTo>
                <a:arcTo wR="10800" hR="10800" stAng="-10038120" swAng="1027491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006720" y="320184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257640" y="3284640"/>
            <a:ext cx="162000" cy="30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238560" y="3591000"/>
            <a:ext cx="466560" cy="247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rot="9813000">
            <a:off x="3054240" y="3344760"/>
            <a:ext cx="394920" cy="43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" y="11449"/>
                </a:moveTo>
                <a:arcTo wR="10800" hR="10800" stAng="10593398" swAng="11243394"/>
                <a:lnTo>
                  <a:pt x="10800" y="10800"/>
                </a:lnTo>
                <a:close/>
              </a:path>
              <a:path fill="none" w="21600" h="21600">
                <a:moveTo>
                  <a:pt x="19" y="11449"/>
                </a:moveTo>
                <a:arcTo wR="10800" hR="10800" stAng="10593398" swAng="1124339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1099800" y="2457360"/>
            <a:ext cx="7308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3177720" y="3506760"/>
            <a:ext cx="7308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546120" y="5361120"/>
                <a:ext cx="28018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6" name=""/>
          <p:cNvSpPr/>
          <p:nvPr/>
        </p:nvSpPr>
        <p:spPr>
          <a:xfrm>
            <a:off x="1187280" y="5864400"/>
            <a:ext cx="216000" cy="252360"/>
          </a:xfrm>
          <a:prstGeom prst="downArrow">
            <a:avLst>
              <a:gd name="adj1" fmla="val 57361"/>
              <a:gd name="adj2" fmla="val 45559"/>
            </a:avLst>
          </a:prstGeom>
          <a:solidFill>
            <a:srgbClr val="caffa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615960" y="5970600"/>
                <a:ext cx="2646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6300720" y="5378400"/>
                <a:ext cx="12240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9" name=""/>
          <p:cNvSpPr/>
          <p:nvPr/>
        </p:nvSpPr>
        <p:spPr>
          <a:xfrm rot="20293200">
            <a:off x="3246120" y="5857560"/>
            <a:ext cx="824040" cy="168120"/>
          </a:xfrm>
          <a:prstGeom prst="leftRightArrow">
            <a:avLst>
              <a:gd name="adj1" fmla="val 50000"/>
              <a:gd name="adj2" fmla="val 97576"/>
            </a:avLst>
          </a:prstGeom>
          <a:solidFill>
            <a:srgbClr val="caffa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477720" y="2556000"/>
                <a:ext cx="509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455760" y="1976400"/>
                <a:ext cx="474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1104840" y="1951200"/>
                <a:ext cx="438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689200" y="3625920"/>
                <a:ext cx="509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3294000" y="2984400"/>
                <a:ext cx="438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645000" y="3716280"/>
                <a:ext cx="474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2771640" y="4797360"/>
                <a:ext cx="14400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7" name=""/>
          <p:cNvSpPr/>
          <p:nvPr/>
        </p:nvSpPr>
        <p:spPr>
          <a:xfrm rot="2418000">
            <a:off x="2409840" y="4341600"/>
            <a:ext cx="200160" cy="774720"/>
          </a:xfrm>
          <a:prstGeom prst="downArrow">
            <a:avLst>
              <a:gd name="adj1" fmla="val 45019"/>
              <a:gd name="adj2" fmla="val 76120"/>
            </a:avLst>
          </a:prstGeom>
          <a:solidFill>
            <a:srgbClr val="caffa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556000" y="3979800"/>
            <a:ext cx="22320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вновес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стояние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го эле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2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8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1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4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МАТРИЧНОЙ ФОРМЕ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114560" y="981000"/>
            <a:ext cx="68421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ределение реакций связей в ОСМП   к и н е м а т и ч е с к и м    м е т о д о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908000" y="1374840"/>
            <a:ext cx="5256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через работу концевых усилий и узловых нагру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4780080" y="1557360"/>
                <a:ext cx="2163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24" name=""/>
          <p:cNvSpPr/>
          <p:nvPr/>
        </p:nvSpPr>
        <p:spPr>
          <a:xfrm>
            <a:off x="2370240" y="1676520"/>
            <a:ext cx="2448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казательство теор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130400" y="2529000"/>
            <a:ext cx="2090520" cy="1054080"/>
          </a:xfrm>
          <a:custGeom>
            <a:avLst/>
            <a:gdLst/>
            <a:ahLst/>
            <a:rect l="l" t="t" r="r" b="b"/>
            <a:pathLst>
              <a:path w="1317" h="664">
                <a:moveTo>
                  <a:pt x="0" y="0"/>
                </a:moveTo>
                <a:lnTo>
                  <a:pt x="1317" y="66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2114640" y="2627280"/>
            <a:ext cx="7776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411280" y="3035160"/>
            <a:ext cx="36720" cy="1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549520" y="3071880"/>
            <a:ext cx="3636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700360" y="3112920"/>
            <a:ext cx="17280" cy="19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838600" y="31971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2979360" y="3313080"/>
            <a:ext cx="2556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406600" y="3035160"/>
            <a:ext cx="598680" cy="281160"/>
          </a:xfrm>
          <a:custGeom>
            <a:avLst/>
            <a:gdLst/>
            <a:ahLst/>
            <a:rect l="l" t="t" r="r" b="b"/>
            <a:pathLst>
              <a:path w="377" h="234">
                <a:moveTo>
                  <a:pt x="0" y="0"/>
                </a:moveTo>
                <a:cubicBezTo>
                  <a:pt x="16" y="4"/>
                  <a:pt x="66" y="12"/>
                  <a:pt x="97" y="22"/>
                </a:cubicBezTo>
                <a:cubicBezTo>
                  <a:pt x="128" y="32"/>
                  <a:pt x="158" y="41"/>
                  <a:pt x="189" y="58"/>
                </a:cubicBezTo>
                <a:cubicBezTo>
                  <a:pt x="220" y="75"/>
                  <a:pt x="250" y="97"/>
                  <a:pt x="281" y="126"/>
                </a:cubicBezTo>
                <a:cubicBezTo>
                  <a:pt x="312" y="155"/>
                  <a:pt x="357" y="212"/>
                  <a:pt x="377" y="23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133720" y="2479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598840" y="2755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017800" y="3108240"/>
            <a:ext cx="287280" cy="28908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rot="7046400">
            <a:off x="2602440" y="2100600"/>
            <a:ext cx="214200" cy="1133640"/>
          </a:xfrm>
          <a:custGeom>
            <a:avLst/>
            <a:gdLst>
              <a:gd name="textAreaLeft" fmla="*/ 136800 w 214200"/>
              <a:gd name="textAreaRight" fmla="*/ 214560 w 21420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rot="1570800">
            <a:off x="2280960" y="2197080"/>
            <a:ext cx="109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неузловые 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050920" y="3043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663560" y="345924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666800" y="34606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87440" y="3616200"/>
            <a:ext cx="1150920" cy="863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835200" y="38210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658880" y="389880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679400" y="3890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98600" y="4460760"/>
            <a:ext cx="1150920" cy="43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77720" y="4502160"/>
            <a:ext cx="12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мещени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663560" y="434196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711440" y="43178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251080" y="389880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259000" y="38577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066760" y="3506760"/>
            <a:ext cx="144720" cy="1224000"/>
          </a:xfrm>
          <a:custGeom>
            <a:avLst/>
            <a:gdLst>
              <a:gd name="textAreaLeft" fmla="*/ 0 w 144720"/>
              <a:gd name="textAreaRight" fmla="*/ 5220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319720" y="2881440"/>
            <a:ext cx="2046240" cy="1035000"/>
          </a:xfrm>
          <a:custGeom>
            <a:avLst/>
            <a:gdLst/>
            <a:ahLst/>
            <a:rect l="l" t="t" r="r" b="b"/>
            <a:pathLst>
              <a:path w="1289" h="652">
                <a:moveTo>
                  <a:pt x="0" y="0"/>
                </a:moveTo>
                <a:lnTo>
                  <a:pt x="1289" y="652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404040" y="3359160"/>
            <a:ext cx="287280" cy="28908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383080" y="2440080"/>
            <a:ext cx="2349720" cy="1873080"/>
          </a:xfrm>
          <a:custGeom>
            <a:avLst/>
            <a:gdLst/>
            <a:ahLst/>
            <a:rect l="l" t="t" r="r" b="b"/>
            <a:pathLst>
              <a:path w="1480" h="1180">
                <a:moveTo>
                  <a:pt x="0" y="0"/>
                </a:moveTo>
                <a:cubicBezTo>
                  <a:pt x="19" y="28"/>
                  <a:pt x="73" y="116"/>
                  <a:pt x="116" y="168"/>
                </a:cubicBezTo>
                <a:cubicBezTo>
                  <a:pt x="159" y="220"/>
                  <a:pt x="197" y="265"/>
                  <a:pt x="260" y="312"/>
                </a:cubicBezTo>
                <a:cubicBezTo>
                  <a:pt x="323" y="359"/>
                  <a:pt x="391" y="403"/>
                  <a:pt x="496" y="452"/>
                </a:cubicBezTo>
                <a:cubicBezTo>
                  <a:pt x="601" y="501"/>
                  <a:pt x="778" y="557"/>
                  <a:pt x="888" y="608"/>
                </a:cubicBezTo>
                <a:cubicBezTo>
                  <a:pt x="998" y="659"/>
                  <a:pt x="1080" y="703"/>
                  <a:pt x="1156" y="760"/>
                </a:cubicBezTo>
                <a:cubicBezTo>
                  <a:pt x="1232" y="817"/>
                  <a:pt x="1290" y="878"/>
                  <a:pt x="1344" y="948"/>
                </a:cubicBezTo>
                <a:cubicBezTo>
                  <a:pt x="1398" y="1018"/>
                  <a:pt x="1452" y="1132"/>
                  <a:pt x="1480" y="11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432480" y="3278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010200" y="367992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056280" y="36338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629240" y="3573360"/>
            <a:ext cx="15843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иртуаль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возмож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мещ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081240" y="4425840"/>
            <a:ext cx="3672000" cy="51012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3911760" y="4448160"/>
                <a:ext cx="27270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Σ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356000" y="4819680"/>
                <a:ext cx="3310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4124160" y="5489640"/>
                <a:ext cx="20973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3" name=""/>
          <p:cNvSpPr/>
          <p:nvPr/>
        </p:nvSpPr>
        <p:spPr>
          <a:xfrm>
            <a:off x="5303880" y="285588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5318280" y="2463840"/>
            <a:ext cx="54000" cy="39528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334120" y="2513160"/>
            <a:ext cx="166680" cy="339480"/>
          </a:xfrm>
          <a:custGeom>
            <a:avLst/>
            <a:gdLst/>
            <a:ahLst/>
            <a:rect l="l" t="t" r="r" b="b"/>
            <a:pathLst>
              <a:path w="105" h="214">
                <a:moveTo>
                  <a:pt x="0" y="214"/>
                </a:moveTo>
                <a:lnTo>
                  <a:pt x="105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H="1" flipV="1">
            <a:off x="5187600" y="2801880"/>
            <a:ext cx="119160" cy="61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5194440" y="2449440"/>
            <a:ext cx="179280" cy="3603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78400" y="2443320"/>
            <a:ext cx="125640" cy="6192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064120" y="224640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013360" y="271764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557680" y="222876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5502240" y="2455920"/>
            <a:ext cx="125280" cy="54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5468400" y="2488680"/>
            <a:ext cx="37332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 flipV="1">
            <a:off x="5384880" y="2475000"/>
            <a:ext cx="216000" cy="45072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584680" y="2657520"/>
            <a:ext cx="209520" cy="22212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672160" y="261468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396200" y="3935520"/>
            <a:ext cx="93492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362720" y="3903840"/>
            <a:ext cx="367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396200" y="3943440"/>
            <a:ext cx="323640" cy="37764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396200" y="3930480"/>
            <a:ext cx="420480" cy="227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7295760" y="3936960"/>
            <a:ext cx="73080" cy="154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7296120" y="4087800"/>
            <a:ext cx="420840" cy="2271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7730640" y="4159080"/>
            <a:ext cx="71640" cy="14472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7704000" y="405612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724880" y="384660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7062840" y="394956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7947000" y="448308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7730640" y="4316040"/>
            <a:ext cx="37332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 flipV="1">
            <a:off x="7721280" y="4302000"/>
            <a:ext cx="198360" cy="39528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905600" y="4492800"/>
            <a:ext cx="179640" cy="17928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5383080" y="2201400"/>
            <a:ext cx="119160" cy="23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8278920" y="424008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375160" y="18939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896760" y="24843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654120" y="2276640"/>
            <a:ext cx="449280" cy="23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1087560" y="2244240"/>
            <a:ext cx="14580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rot="17520000">
            <a:off x="816840" y="2276280"/>
            <a:ext cx="433080" cy="4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4" y="8426"/>
                </a:moveTo>
                <a:arcTo wR="10800" hR="10800" stAng="-10038120" swAng="10274913"/>
                <a:lnTo>
                  <a:pt x="10800" y="10800"/>
                </a:lnTo>
                <a:close/>
              </a:path>
              <a:path fill="none" w="21600" h="21600">
                <a:moveTo>
                  <a:pt x="264" y="8426"/>
                </a:moveTo>
                <a:arcTo wR="10800" hR="10800" stAng="-10038120" swAng="1027491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006720" y="320184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3257640" y="3284640"/>
            <a:ext cx="162000" cy="30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238560" y="3591000"/>
            <a:ext cx="466560" cy="247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rot="9813000">
            <a:off x="3054240" y="3344760"/>
            <a:ext cx="394920" cy="43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" y="11449"/>
                </a:moveTo>
                <a:arcTo wR="10800" hR="10800" stAng="10593398" swAng="11243394"/>
                <a:lnTo>
                  <a:pt x="10800" y="10800"/>
                </a:lnTo>
                <a:close/>
              </a:path>
              <a:path fill="none" w="21600" h="21600">
                <a:moveTo>
                  <a:pt x="19" y="11449"/>
                </a:moveTo>
                <a:arcTo wR="10800" hR="10800" stAng="10593398" swAng="1124339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1099800" y="2457360"/>
            <a:ext cx="7308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3177720" y="3506760"/>
            <a:ext cx="7308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6300720" y="5378400"/>
                <a:ext cx="12240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05" name=""/>
          <p:cNvSpPr/>
          <p:nvPr/>
        </p:nvSpPr>
        <p:spPr>
          <a:xfrm rot="14205600">
            <a:off x="6777720" y="4642560"/>
            <a:ext cx="1403280" cy="744480"/>
          </a:xfrm>
          <a:custGeom>
            <a:avLst/>
            <a:gdLst>
              <a:gd name="textAreaLeft" fmla="*/ 296640 w 1403280"/>
              <a:gd name="textAreaRight" fmla="*/ 1033200 w 1403280"/>
              <a:gd name="textAreaTop" fmla="*/ 99720 h 744480"/>
              <a:gd name="textAreaBottom" fmla="*/ 644760 h 74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41" hR="21600" stAng="10800000" swAng="-5400000"/>
                <a:lnTo>
                  <a:pt x="11331" y="21600"/>
                </a:lnTo>
                <a:arcTo wR="9141" hR="21600" stAng="5400000" swAng="-3518137"/>
                <a:lnTo>
                  <a:pt x="21310" y="5395"/>
                </a:lnTo>
                <a:lnTo>
                  <a:pt x="19376" y="0"/>
                </a:lnTo>
                <a:lnTo>
                  <a:pt x="16862" y="5395"/>
                </a:lnTo>
                <a:lnTo>
                  <a:pt x="17991" y="5395"/>
                </a:lnTo>
                <a:arcTo wR="9141" hR="21600" stAng="1881863" swAng="3342751"/>
                <a:lnTo>
                  <a:pt x="10236" y="21444"/>
                </a:lnTo>
                <a:arcTo wR="9141" hR="21600" stAng="5575386" swAng="5224614"/>
                <a:close/>
              </a:path>
              <a:path fill="darkenLess" w="21600" h="21600">
                <a:moveTo>
                  <a:pt x="0" y="0"/>
                </a:moveTo>
                <a:arcTo wR="9141" hR="21600" stAng="10800000" swAng="-5400000"/>
                <a:lnTo>
                  <a:pt x="11331" y="21600"/>
                </a:lnTo>
                <a:arcTo wR="9141" hR="21600" stAng="5400000" swAng="175386"/>
                <a:lnTo>
                  <a:pt x="10236" y="21444"/>
                </a:lnTo>
                <a:arcTo wR="9141" hR="21600" stAng="5575386" swAng="5224614"/>
                <a:close/>
              </a:path>
            </a:pathLst>
          </a:custGeom>
          <a:solidFill>
            <a:srgbClr val="caffa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811680" y="4287960"/>
            <a:ext cx="2081160" cy="59832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3805200" y="4183200"/>
                <a:ext cx="20876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477720" y="2556000"/>
                <a:ext cx="509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455760" y="1976400"/>
                <a:ext cx="474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1104840" y="1951200"/>
                <a:ext cx="438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689200" y="3625920"/>
                <a:ext cx="509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294000" y="2984400"/>
                <a:ext cx="438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645000" y="3716280"/>
                <a:ext cx="474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771640" y="4797360"/>
                <a:ext cx="14400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15" name=""/>
          <p:cNvSpPr/>
          <p:nvPr/>
        </p:nvSpPr>
        <p:spPr>
          <a:xfrm>
            <a:off x="2556000" y="3979800"/>
            <a:ext cx="22320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вновес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стояние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го эле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9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2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5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8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1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МАТРИЧНОЙ ФОРМЕ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114560" y="981000"/>
            <a:ext cx="68421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ределение реакций связей в ОСМП   к и н е м а т и ч е с к и м    м е т о д о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1374840"/>
            <a:ext cx="5256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через работу концевых усилий и узловых нагру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4780080" y="1557360"/>
                <a:ext cx="2163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21" name=""/>
          <p:cNvSpPr/>
          <p:nvPr/>
        </p:nvSpPr>
        <p:spPr>
          <a:xfrm>
            <a:off x="2370240" y="1676520"/>
            <a:ext cx="2448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казательство теор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130400" y="2529000"/>
            <a:ext cx="2090520" cy="1054080"/>
          </a:xfrm>
          <a:custGeom>
            <a:avLst/>
            <a:gdLst/>
            <a:ahLst/>
            <a:rect l="l" t="t" r="r" b="b"/>
            <a:pathLst>
              <a:path w="1317" h="664">
                <a:moveTo>
                  <a:pt x="0" y="0"/>
                </a:moveTo>
                <a:lnTo>
                  <a:pt x="1317" y="66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2114640" y="2627280"/>
            <a:ext cx="7776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411280" y="3035160"/>
            <a:ext cx="36720" cy="1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549520" y="3071880"/>
            <a:ext cx="3636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700360" y="3112920"/>
            <a:ext cx="17280" cy="19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838600" y="31971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2979360" y="3313080"/>
            <a:ext cx="2556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406600" y="3035160"/>
            <a:ext cx="598680" cy="281160"/>
          </a:xfrm>
          <a:custGeom>
            <a:avLst/>
            <a:gdLst/>
            <a:ahLst/>
            <a:rect l="l" t="t" r="r" b="b"/>
            <a:pathLst>
              <a:path w="377" h="234">
                <a:moveTo>
                  <a:pt x="0" y="0"/>
                </a:moveTo>
                <a:cubicBezTo>
                  <a:pt x="16" y="4"/>
                  <a:pt x="66" y="12"/>
                  <a:pt x="97" y="22"/>
                </a:cubicBezTo>
                <a:cubicBezTo>
                  <a:pt x="128" y="32"/>
                  <a:pt x="158" y="41"/>
                  <a:pt x="189" y="58"/>
                </a:cubicBezTo>
                <a:cubicBezTo>
                  <a:pt x="220" y="75"/>
                  <a:pt x="250" y="97"/>
                  <a:pt x="281" y="126"/>
                </a:cubicBezTo>
                <a:cubicBezTo>
                  <a:pt x="312" y="155"/>
                  <a:pt x="357" y="212"/>
                  <a:pt x="377" y="23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33720" y="2479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598840" y="2755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017800" y="3108240"/>
            <a:ext cx="287280" cy="28908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rot="7046400">
            <a:off x="2602440" y="2100600"/>
            <a:ext cx="214200" cy="1133640"/>
          </a:xfrm>
          <a:custGeom>
            <a:avLst/>
            <a:gdLst>
              <a:gd name="textAreaLeft" fmla="*/ 136800 w 214200"/>
              <a:gd name="textAreaRight" fmla="*/ 214560 w 21420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rot="1570800">
            <a:off x="2280960" y="2197080"/>
            <a:ext cx="109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неузловые 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050920" y="3043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663560" y="345924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666800" y="34606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87440" y="3616200"/>
            <a:ext cx="1150920" cy="863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835200" y="38210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658880" y="389880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679400" y="3890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98600" y="4460760"/>
            <a:ext cx="1150920" cy="43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477720" y="4502160"/>
            <a:ext cx="12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мещени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663560" y="434196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711440" y="43178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251080" y="389880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259000" y="38577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066760" y="3506760"/>
            <a:ext cx="144720" cy="1224000"/>
          </a:xfrm>
          <a:custGeom>
            <a:avLst/>
            <a:gdLst>
              <a:gd name="textAreaLeft" fmla="*/ 0 w 144720"/>
              <a:gd name="textAreaRight" fmla="*/ 5220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319720" y="2881440"/>
            <a:ext cx="2046240" cy="1035000"/>
          </a:xfrm>
          <a:custGeom>
            <a:avLst/>
            <a:gdLst/>
            <a:ahLst/>
            <a:rect l="l" t="t" r="r" b="b"/>
            <a:pathLst>
              <a:path w="1289" h="652">
                <a:moveTo>
                  <a:pt x="0" y="0"/>
                </a:moveTo>
                <a:lnTo>
                  <a:pt x="1289" y="652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404040" y="3359160"/>
            <a:ext cx="287280" cy="28908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383080" y="2440080"/>
            <a:ext cx="2349720" cy="1873080"/>
          </a:xfrm>
          <a:custGeom>
            <a:avLst/>
            <a:gdLst/>
            <a:ahLst/>
            <a:rect l="l" t="t" r="r" b="b"/>
            <a:pathLst>
              <a:path w="1480" h="1180">
                <a:moveTo>
                  <a:pt x="0" y="0"/>
                </a:moveTo>
                <a:cubicBezTo>
                  <a:pt x="19" y="28"/>
                  <a:pt x="73" y="116"/>
                  <a:pt x="116" y="168"/>
                </a:cubicBezTo>
                <a:cubicBezTo>
                  <a:pt x="159" y="220"/>
                  <a:pt x="197" y="265"/>
                  <a:pt x="260" y="312"/>
                </a:cubicBezTo>
                <a:cubicBezTo>
                  <a:pt x="323" y="359"/>
                  <a:pt x="391" y="403"/>
                  <a:pt x="496" y="452"/>
                </a:cubicBezTo>
                <a:cubicBezTo>
                  <a:pt x="601" y="501"/>
                  <a:pt x="778" y="557"/>
                  <a:pt x="888" y="608"/>
                </a:cubicBezTo>
                <a:cubicBezTo>
                  <a:pt x="998" y="659"/>
                  <a:pt x="1080" y="703"/>
                  <a:pt x="1156" y="760"/>
                </a:cubicBezTo>
                <a:cubicBezTo>
                  <a:pt x="1232" y="817"/>
                  <a:pt x="1290" y="878"/>
                  <a:pt x="1344" y="948"/>
                </a:cubicBezTo>
                <a:cubicBezTo>
                  <a:pt x="1398" y="1018"/>
                  <a:pt x="1452" y="1132"/>
                  <a:pt x="1480" y="11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432480" y="3278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010200" y="367992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056280" y="36338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629240" y="3573360"/>
            <a:ext cx="15843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иртуаль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возмож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мещ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303880" y="285588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5318280" y="2463840"/>
            <a:ext cx="54000" cy="39528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334120" y="2513160"/>
            <a:ext cx="166680" cy="339480"/>
          </a:xfrm>
          <a:custGeom>
            <a:avLst/>
            <a:gdLst/>
            <a:ahLst/>
            <a:rect l="l" t="t" r="r" b="b"/>
            <a:pathLst>
              <a:path w="105" h="214">
                <a:moveTo>
                  <a:pt x="0" y="214"/>
                </a:moveTo>
                <a:lnTo>
                  <a:pt x="105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H="1" flipV="1">
            <a:off x="5187600" y="2801880"/>
            <a:ext cx="119160" cy="61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5194440" y="2449440"/>
            <a:ext cx="179280" cy="3603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378400" y="2443320"/>
            <a:ext cx="125640" cy="6192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064120" y="224640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013360" y="271764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557680" y="222876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502240" y="2455920"/>
            <a:ext cx="125280" cy="54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5468400" y="2488680"/>
            <a:ext cx="37332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 flipV="1">
            <a:off x="5384880" y="2475000"/>
            <a:ext cx="216000" cy="45072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584680" y="2657520"/>
            <a:ext cx="209520" cy="22212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672160" y="261468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396200" y="3935520"/>
            <a:ext cx="93492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62720" y="3903840"/>
            <a:ext cx="367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7396200" y="3943440"/>
            <a:ext cx="323640" cy="37764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7396200" y="3930480"/>
            <a:ext cx="420480" cy="227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7295760" y="3936960"/>
            <a:ext cx="73080" cy="154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7296120" y="4087800"/>
            <a:ext cx="420840" cy="2271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7730640" y="4159080"/>
            <a:ext cx="71640" cy="14472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7704000" y="405612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7724880" y="384660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7062840" y="394956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7947000" y="448308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7730640" y="4316040"/>
            <a:ext cx="37332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7721280" y="4302000"/>
            <a:ext cx="198360" cy="39528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7905600" y="4492800"/>
            <a:ext cx="179640" cy="17928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5383080" y="2201400"/>
            <a:ext cx="119160" cy="23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8278920" y="424008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375160" y="18939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896760" y="24843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H="1" flipV="1">
            <a:off x="654120" y="2276640"/>
            <a:ext cx="449280" cy="23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1087560" y="2244240"/>
            <a:ext cx="14580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rot="17520000">
            <a:off x="816840" y="2276280"/>
            <a:ext cx="433080" cy="4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4" y="8426"/>
                </a:moveTo>
                <a:arcTo wR="10800" hR="10800" stAng="-10038120" swAng="10274913"/>
                <a:lnTo>
                  <a:pt x="10800" y="10800"/>
                </a:lnTo>
                <a:close/>
              </a:path>
              <a:path fill="none" w="21600" h="21600">
                <a:moveTo>
                  <a:pt x="264" y="8426"/>
                </a:moveTo>
                <a:arcTo wR="10800" hR="10800" stAng="-10038120" swAng="1027491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006720" y="320184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3257640" y="3284640"/>
            <a:ext cx="162000" cy="30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238560" y="3591000"/>
            <a:ext cx="466560" cy="247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rot="9813000">
            <a:off x="3054240" y="3344760"/>
            <a:ext cx="394920" cy="43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" y="11449"/>
                </a:moveTo>
                <a:arcTo wR="10800" hR="10800" stAng="10593398" swAng="11243394"/>
                <a:lnTo>
                  <a:pt x="10800" y="10800"/>
                </a:lnTo>
                <a:close/>
              </a:path>
              <a:path fill="none" w="21600" h="21600">
                <a:moveTo>
                  <a:pt x="19" y="11449"/>
                </a:moveTo>
                <a:arcTo wR="10800" hR="10800" stAng="10593398" swAng="1124339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1099800" y="2457360"/>
            <a:ext cx="7308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3177720" y="3506760"/>
            <a:ext cx="7308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811680" y="4287960"/>
            <a:ext cx="2081160" cy="59832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805200" y="4183200"/>
                <a:ext cx="20876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477720" y="2556000"/>
                <a:ext cx="509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455760" y="1976400"/>
                <a:ext cx="474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1104840" y="1951200"/>
                <a:ext cx="438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2689200" y="3625920"/>
                <a:ext cx="509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3294000" y="2984400"/>
                <a:ext cx="438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3645000" y="3716280"/>
                <a:ext cx="474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477720" y="5937120"/>
                <a:ext cx="16210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06" name=""/>
          <p:cNvSpPr/>
          <p:nvPr/>
        </p:nvSpPr>
        <p:spPr>
          <a:xfrm>
            <a:off x="4487760" y="4894200"/>
            <a:ext cx="503280" cy="1055880"/>
          </a:xfrm>
          <a:prstGeom prst="downArrow">
            <a:avLst>
              <a:gd name="adj1" fmla="val 48065"/>
              <a:gd name="adj2" fmla="val 43572"/>
            </a:avLst>
          </a:prstGeom>
          <a:solidFill>
            <a:srgbClr val="dbffc9"/>
          </a:solidFill>
          <a:ln w="28440">
            <a:solidFill>
              <a:srgbClr val="81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rot="16200000">
            <a:off x="2604240" y="5747040"/>
            <a:ext cx="431640" cy="1055520"/>
          </a:xfrm>
          <a:prstGeom prst="downArrow">
            <a:avLst>
              <a:gd name="adj1" fmla="val 48065"/>
              <a:gd name="adj2" fmla="val 50787"/>
            </a:avLst>
          </a:prstGeom>
          <a:solidFill>
            <a:srgbClr val="dbffc9"/>
          </a:solidFill>
          <a:ln w="28440">
            <a:solidFill>
              <a:srgbClr val="81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673440" y="5987880"/>
            <a:ext cx="2376360" cy="57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3759120" y="6005520"/>
                <a:ext cx="21560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356000" y="4819680"/>
                <a:ext cx="3310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669960" y="5286240"/>
                <a:ext cx="78771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2805120" y="4808520"/>
                <a:ext cx="13730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МАТРИЧНОЙ ФОРМЕ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114560" y="981000"/>
            <a:ext cx="68421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ределение реакций связей в ОСМП   к и н е м а т и ч е с к и м    м е т о д о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908000" y="1374840"/>
            <a:ext cx="5256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через работу концевых усилий и узловых нагру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419640" y="1628640"/>
            <a:ext cx="2376360" cy="57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3505320" y="1646280"/>
                <a:ext cx="2155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2195640" y="3741840"/>
                <a:ext cx="14619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3592440" y="3776760"/>
                <a:ext cx="3543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,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,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98440" y="3297240"/>
                <a:ext cx="85694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22" name=""/>
          <p:cNvSpPr/>
          <p:nvPr/>
        </p:nvSpPr>
        <p:spPr>
          <a:xfrm>
            <a:off x="276120" y="2158920"/>
            <a:ext cx="8569440" cy="11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еакция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й связи от заданных воздействий (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) равна разности между возможной работ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онцевых усилий элементов системы от воздействий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 перемещениях концевых сечений от единичного смещения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й связи (о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)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и возможной работой            узловых нагрузок (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н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еремещениях узлов, вызванных смещением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й связ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6265800" y="2639880"/>
                <a:ext cx="4320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417600" y="2408400"/>
                <a:ext cx="404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25" name=""/>
          <p:cNvSpPr/>
          <p:nvPr/>
        </p:nvSpPr>
        <p:spPr>
          <a:xfrm>
            <a:off x="2843280" y="321300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ля плоской стержневой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763640" y="450864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матричной форм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523800" y="4425840"/>
                <a:ext cx="4438800" cy="18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]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 rot="5400000">
            <a:off x="2720880" y="4098960"/>
            <a:ext cx="144360" cy="3024000"/>
          </a:xfrm>
          <a:custGeom>
            <a:avLst/>
            <a:gdLst>
              <a:gd name="textAreaLeft" fmla="*/ 0 w 144360"/>
              <a:gd name="textAreaRight" fmla="*/ 52200 w 1443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2585880" y="5653080"/>
                <a:ext cx="5032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r>
                          <m:t xml:space="preserve">Σ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30" name=""/>
          <p:cNvSpPr/>
          <p:nvPr/>
        </p:nvSpPr>
        <p:spPr>
          <a:xfrm>
            <a:off x="5003640" y="4437000"/>
            <a:ext cx="144720" cy="1800360"/>
          </a:xfrm>
          <a:custGeom>
            <a:avLst/>
            <a:gdLst>
              <a:gd name="textAreaLeft" fmla="*/ 0 w 144720"/>
              <a:gd name="textAreaRight" fmla="*/ 52200 w 1447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5143680" y="5097600"/>
                <a:ext cx="38880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24000" y="6093000"/>
                <a:ext cx="4791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750960" y="6170760"/>
            <a:ext cx="321156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ектор концевых усилий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го элем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т заданных воздейст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448240" y="5192640"/>
            <a:ext cx="34560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ектор перемещений концевых сеч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го элемента в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м единич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остоянии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(от смещения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й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вязи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rot="15321000">
            <a:off x="1424520" y="4724640"/>
            <a:ext cx="144360" cy="774720"/>
          </a:xfrm>
          <a:prstGeom prst="downArrow">
            <a:avLst>
              <a:gd name="adj1" fmla="val 42111"/>
              <a:gd name="adj2" fmla="val 92474"/>
            </a:avLst>
          </a:prstGeom>
          <a:solidFill>
            <a:srgbClr val="dbffc9"/>
          </a:solidFill>
          <a:ln w="28440">
            <a:solidFill>
              <a:srgbClr val="81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rot="14617800">
            <a:off x="1665720" y="4540680"/>
            <a:ext cx="144360" cy="2314440"/>
          </a:xfrm>
          <a:prstGeom prst="downArrow">
            <a:avLst>
              <a:gd name="adj1" fmla="val 45056"/>
              <a:gd name="adj2" fmla="val 171235"/>
            </a:avLst>
          </a:prstGeom>
          <a:solidFill>
            <a:srgbClr val="dbffc9"/>
          </a:solidFill>
          <a:ln w="28440">
            <a:solidFill>
              <a:srgbClr val="81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rot="5976600">
            <a:off x="4406760" y="4493880"/>
            <a:ext cx="144360" cy="1376640"/>
          </a:xfrm>
          <a:prstGeom prst="downArrow">
            <a:avLst>
              <a:gd name="adj1" fmla="val 45056"/>
              <a:gd name="adj2" fmla="val 124765"/>
            </a:avLst>
          </a:prstGeom>
          <a:solidFill>
            <a:srgbClr val="dbffc9"/>
          </a:solidFill>
          <a:ln w="28440">
            <a:solidFill>
              <a:srgbClr val="81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1893960" y="4759200"/>
                <a:ext cx="1871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r>
                          <m:t xml:space="preserve">Σ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2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7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6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1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6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9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2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5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8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1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4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7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0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3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6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МАТРИЧНОЙ ФОРМЕ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114560" y="981000"/>
            <a:ext cx="68421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ределение реакций связей в ОСМП   к и н е м а т и ч е с к и м    м е т о д о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908000" y="1374840"/>
            <a:ext cx="5256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через работу концевых усилий и узловых нагру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419640" y="1628640"/>
            <a:ext cx="2376360" cy="57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3505320" y="1646280"/>
                <a:ext cx="2155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2195640" y="3741840"/>
                <a:ext cx="14619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3592440" y="3776760"/>
                <a:ext cx="3543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,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,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7" name=""/>
              <p:cNvSpPr txBox="1"/>
              <p:nvPr/>
            </p:nvSpPr>
            <p:spPr>
              <a:xfrm>
                <a:off x="298440" y="3297240"/>
                <a:ext cx="85694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48" name=""/>
          <p:cNvSpPr/>
          <p:nvPr/>
        </p:nvSpPr>
        <p:spPr>
          <a:xfrm>
            <a:off x="276120" y="2158920"/>
            <a:ext cx="8569440" cy="11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еакция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й связи от заданных воздействий (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) равна разности между возможной работ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онцевых усилий элементов системы от воздействий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 перемещениях концевых сечений от единичного смещения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й связи (о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)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и возможной работой            узловых нагрузок (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еремещениях узлов, вызванных смещением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й связ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6262560" y="2639880"/>
                <a:ext cx="4320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17600" y="2408400"/>
                <a:ext cx="404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51" name=""/>
          <p:cNvSpPr/>
          <p:nvPr/>
        </p:nvSpPr>
        <p:spPr>
          <a:xfrm>
            <a:off x="2843280" y="321300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ля плоской стержневой систе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763640" y="450864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матричной форм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3" name=""/>
              <p:cNvSpPr txBox="1"/>
              <p:nvPr/>
            </p:nvSpPr>
            <p:spPr>
              <a:xfrm>
                <a:off x="4246560" y="4503600"/>
                <a:ext cx="25923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,t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,t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,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4" name=""/>
          <p:cNvSpPr/>
          <p:nvPr/>
        </p:nvSpPr>
        <p:spPr>
          <a:xfrm rot="5400000">
            <a:off x="5418720" y="4510800"/>
            <a:ext cx="142920" cy="1487520"/>
          </a:xfrm>
          <a:custGeom>
            <a:avLst/>
            <a:gdLst>
              <a:gd name="textAreaLeft" fmla="*/ 0 w 142920"/>
              <a:gd name="textAreaRight" fmla="*/ 51480 w 142920"/>
              <a:gd name="textAreaTop" fmla="*/ 38520 h 1487520"/>
              <a:gd name="textAreaBottom" fmla="*/ 1449000 h 148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5245200" y="5256360"/>
                <a:ext cx="4572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,t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56" name=""/>
          <p:cNvSpPr/>
          <p:nvPr/>
        </p:nvSpPr>
        <p:spPr>
          <a:xfrm>
            <a:off x="6838920" y="4533840"/>
            <a:ext cx="173160" cy="936720"/>
          </a:xfrm>
          <a:custGeom>
            <a:avLst/>
            <a:gdLst>
              <a:gd name="textAreaLeft" fmla="*/ 0 w 173160"/>
              <a:gd name="textAreaRight" fmla="*/ 62640 w 17316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7" name=""/>
              <p:cNvSpPr txBox="1"/>
              <p:nvPr/>
            </p:nvSpPr>
            <p:spPr>
              <a:xfrm>
                <a:off x="7024680" y="4759200"/>
                <a:ext cx="4716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8" name=""/>
          <p:cNvSpPr/>
          <p:nvPr/>
        </p:nvSpPr>
        <p:spPr>
          <a:xfrm>
            <a:off x="5675400" y="5900760"/>
            <a:ext cx="15541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екто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узловых нагруз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го узла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7232760" y="4911840"/>
            <a:ext cx="166032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  –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екто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еремещ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го узла в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единич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остоянии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(от смещ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й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вязи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rot="3876600">
            <a:off x="3775680" y="4885200"/>
            <a:ext cx="179280" cy="736560"/>
          </a:xfrm>
          <a:prstGeom prst="downArrow">
            <a:avLst>
              <a:gd name="adj1" fmla="val 53611"/>
              <a:gd name="adj2" fmla="val 113305"/>
            </a:avLst>
          </a:prstGeom>
          <a:solidFill>
            <a:srgbClr val="dbffc9"/>
          </a:solidFill>
          <a:ln w="28440">
            <a:solidFill>
              <a:srgbClr val="81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1893960" y="4759200"/>
                <a:ext cx="1871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r>
                          <m:t xml:space="preserve">Σ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1979640" y="5229360"/>
                <a:ext cx="155556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,t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5256360" y="5815080"/>
                <a:ext cx="434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,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0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6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1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4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7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0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3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6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9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2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5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МАТРИЧНОЙ ФОРМЕ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114560" y="981000"/>
            <a:ext cx="68421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ределение реакций связей в ОСМП   к и н е м а т и ч е с к и м    м е т о д о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908000" y="1374840"/>
            <a:ext cx="5256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через работу концевых усилий и узловых нагру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419640" y="1628640"/>
            <a:ext cx="2376360" cy="57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3505320" y="1646280"/>
                <a:ext cx="2155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2195640" y="3741840"/>
                <a:ext cx="14619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3592440" y="3776760"/>
                <a:ext cx="3543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,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,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298440" y="3297240"/>
                <a:ext cx="85694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3" name=""/>
          <p:cNvSpPr/>
          <p:nvPr/>
        </p:nvSpPr>
        <p:spPr>
          <a:xfrm>
            <a:off x="276120" y="2158920"/>
            <a:ext cx="8569440" cy="11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еакция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й связи от заданных воздействий (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) равна разности между возможной работ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онцевых усилий элементов системы от воздействий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 перемещениях концевых сечений от единичного смещения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вязи (о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)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и возможной работой            узловых нагрузок (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н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еремещениях узлов, вызванных смещением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й связ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6262560" y="2639880"/>
                <a:ext cx="4320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417600" y="2408400"/>
                <a:ext cx="404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76" name=""/>
          <p:cNvSpPr/>
          <p:nvPr/>
        </p:nvSpPr>
        <p:spPr>
          <a:xfrm>
            <a:off x="2843280" y="321300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ля плоской стержневой систе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763640" y="450864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матричной форм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857160" y="6045120"/>
            <a:ext cx="1338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вект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узловых нагруз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во всех узлах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286000" y="6021360"/>
            <a:ext cx="17812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ектор перемещ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сех узлов в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единичном состоянии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rot="15643200">
            <a:off x="3805560" y="4802400"/>
            <a:ext cx="179640" cy="269640"/>
          </a:xfrm>
          <a:prstGeom prst="downArrow">
            <a:avLst>
              <a:gd name="adj1" fmla="val 53611"/>
              <a:gd name="adj2" fmla="val 41396"/>
            </a:avLst>
          </a:prstGeom>
          <a:solidFill>
            <a:srgbClr val="dbffc9"/>
          </a:solidFill>
          <a:ln w="28440">
            <a:solidFill>
              <a:srgbClr val="81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1893960" y="4759200"/>
                <a:ext cx="1871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r>
                          <m:t xml:space="preserve">Σ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1979640" y="5229360"/>
                <a:ext cx="155556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,t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 rot="17518800">
            <a:off x="3734280" y="5393160"/>
            <a:ext cx="179640" cy="282240"/>
          </a:xfrm>
          <a:prstGeom prst="downArrow">
            <a:avLst>
              <a:gd name="adj1" fmla="val 53611"/>
              <a:gd name="adj2" fmla="val 43330"/>
            </a:avLst>
          </a:prstGeom>
          <a:solidFill>
            <a:srgbClr val="dbffc9"/>
          </a:solidFill>
          <a:ln w="28440">
            <a:solidFill>
              <a:srgbClr val="81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4024440" y="4470480"/>
                <a:ext cx="18730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4024440" y="5218200"/>
                <a:ext cx="17398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5843520" y="4627440"/>
                <a:ext cx="7668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5778360" y="5411880"/>
                <a:ext cx="7668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6688080" y="4205160"/>
                <a:ext cx="108108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,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,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7907400" y="4202280"/>
                <a:ext cx="9381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,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0" name=""/>
          <p:cNvSpPr/>
          <p:nvPr/>
        </p:nvSpPr>
        <p:spPr>
          <a:xfrm>
            <a:off x="6595920" y="5373720"/>
            <a:ext cx="107172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ве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концев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усилий все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от за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воз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764480" y="5372280"/>
            <a:ext cx="122400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ект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перемещ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концев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сеч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сех элемен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единич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состоянии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900000" y="4724280"/>
                <a:ext cx="110016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2519280" y="4724280"/>
                <a:ext cx="97308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с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с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0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5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0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5" dur="1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2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7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4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6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6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0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3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6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9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МАТРИЧНОЙ ФОРМЕ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114560" y="981000"/>
            <a:ext cx="68421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ределение реакций связей в ОСМП   к и н е м а т и ч е с к и м    м е т о д о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908000" y="1374840"/>
            <a:ext cx="5256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через работу концевых усилий и узловых нагру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419640" y="1628640"/>
            <a:ext cx="2376360" cy="57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3505320" y="1646280"/>
                <a:ext cx="2155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2195640" y="3741840"/>
                <a:ext cx="14619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3592440" y="3776760"/>
                <a:ext cx="3543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,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,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298440" y="3297240"/>
                <a:ext cx="85694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</m:t>
                                </m:r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03" name=""/>
          <p:cNvSpPr/>
          <p:nvPr/>
        </p:nvSpPr>
        <p:spPr>
          <a:xfrm>
            <a:off x="276120" y="2158920"/>
            <a:ext cx="8569440" cy="11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еакция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й связи от заданных воздействий (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) равна разности между возможной работ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онцевых усилий элементов системы от воздействий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 перемещениях концевых сечений от единичного смещения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й связи (о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)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и возможной работой            узловых нагрузок (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еремещениях узлов, вызванных смещением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й связ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6262560" y="2639880"/>
                <a:ext cx="4320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417600" y="2408400"/>
                <a:ext cx="404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06" name=""/>
          <p:cNvSpPr/>
          <p:nvPr/>
        </p:nvSpPr>
        <p:spPr>
          <a:xfrm>
            <a:off x="2843280" y="321300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Для плоской стержневой систе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763640" y="450864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матричной форм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857160" y="6045120"/>
            <a:ext cx="1338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вект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узловых нагруз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во всех узлах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286000" y="6021360"/>
            <a:ext cx="178128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ектор перемещ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сех узлов в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единичном состоянии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4024440" y="4470480"/>
                <a:ext cx="18730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4024440" y="5218200"/>
                <a:ext cx="17398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5843520" y="4627440"/>
                <a:ext cx="7668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5778360" y="5411880"/>
                <a:ext cx="7668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6688080" y="4205160"/>
                <a:ext cx="108108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,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,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7907400" y="4202280"/>
                <a:ext cx="9381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,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6" name=""/>
          <p:cNvSpPr/>
          <p:nvPr/>
        </p:nvSpPr>
        <p:spPr>
          <a:xfrm>
            <a:off x="6595920" y="5373720"/>
            <a:ext cx="107172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ве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концев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усилий все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от за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воз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764480" y="5372280"/>
            <a:ext cx="1224000" cy="12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ект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перемещ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концев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сеч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сех элемен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единич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состоянии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900000" y="4724280"/>
                <a:ext cx="110016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2519280" y="4724280"/>
                <a:ext cx="97308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с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с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 rot="5400000">
            <a:off x="3709080" y="4947120"/>
            <a:ext cx="360360" cy="216000"/>
          </a:xfrm>
          <a:custGeom>
            <a:avLst/>
            <a:gdLst>
              <a:gd name="textAreaLeft" fmla="*/ 67320 w 360360"/>
              <a:gd name="textAreaRight" fmla="*/ 275760 w 360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74" hR="21600" stAng="10800000" swAng="-5400000"/>
                <a:lnTo>
                  <a:pt x="12478" y="21600"/>
                </a:lnTo>
                <a:arcTo wR="8074" hR="21600" stAng="5400000" swAng="-3085561"/>
                <a:lnTo>
                  <a:pt x="21263" y="6171"/>
                </a:lnTo>
                <a:lnTo>
                  <a:pt x="18350" y="0"/>
                </a:lnTo>
                <a:lnTo>
                  <a:pt x="14763" y="6171"/>
                </a:lnTo>
                <a:lnTo>
                  <a:pt x="15811" y="6171"/>
                </a:lnTo>
                <a:arcTo wR="8074" hR="21600" stAng="2314439" swAng="2722647"/>
                <a:lnTo>
                  <a:pt x="10276" y="20781"/>
                </a:lnTo>
                <a:arcTo wR="8074" hR="21600" stAng="5762914" swAng="5037086"/>
                <a:close/>
              </a:path>
              <a:path fill="darkenLess" w="21600" h="21600">
                <a:moveTo>
                  <a:pt x="0" y="0"/>
                </a:moveTo>
                <a:arcTo wR="8074" hR="21600" stAng="10800000" swAng="-5400000"/>
                <a:lnTo>
                  <a:pt x="12478" y="21600"/>
                </a:lnTo>
                <a:arcTo wR="8074" hR="21600" stAng="5400000" swAng="362914"/>
                <a:lnTo>
                  <a:pt x="10276" y="20781"/>
                </a:lnTo>
                <a:arcTo wR="8074" hR="21600" stAng="5762914" swAng="5037086"/>
                <a:close/>
              </a:path>
            </a:pathLst>
          </a:custGeom>
          <a:solidFill>
            <a:srgbClr val="fbddf7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 flipH="1" rot="5320800">
            <a:off x="3709800" y="5343840"/>
            <a:ext cx="360360" cy="216000"/>
          </a:xfrm>
          <a:custGeom>
            <a:avLst/>
            <a:gdLst>
              <a:gd name="textAreaLeft" fmla="*/ 66600 w 360360"/>
              <a:gd name="textAreaRight" fmla="*/ 275400 w 360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045" hR="21600" stAng="10800000" swAng="-5400000"/>
                <a:lnTo>
                  <a:pt x="12508" y="21600"/>
                </a:lnTo>
                <a:arcTo wR="8045" hR="21600" stAng="5400000" swAng="-3047919"/>
                <a:lnTo>
                  <a:pt x="21253" y="6278"/>
                </a:lnTo>
                <a:lnTo>
                  <a:pt x="18321" y="0"/>
                </a:lnTo>
                <a:lnTo>
                  <a:pt x="14694" y="6278"/>
                </a:lnTo>
                <a:lnTo>
                  <a:pt x="15742" y="6278"/>
                </a:lnTo>
                <a:arcTo wR="8045" hR="21600" stAng="2352081" swAng="2679673"/>
                <a:lnTo>
                  <a:pt x="10276" y="20752"/>
                </a:lnTo>
                <a:arcTo wR="8045" hR="21600" stAng="5768246" swAng="5031754"/>
                <a:close/>
              </a:path>
              <a:path fill="darkenLess" w="21600" h="21600">
                <a:moveTo>
                  <a:pt x="0" y="0"/>
                </a:moveTo>
                <a:arcTo wR="8045" hR="21600" stAng="10800000" swAng="-5400000"/>
                <a:lnTo>
                  <a:pt x="12508" y="21600"/>
                </a:lnTo>
                <a:arcTo wR="8045" hR="21600" stAng="5400000" swAng="368246"/>
                <a:lnTo>
                  <a:pt x="10276" y="20752"/>
                </a:lnTo>
                <a:arcTo wR="8045" hR="21600" stAng="5768246" swAng="5031754"/>
                <a:close/>
              </a:path>
            </a:pathLst>
          </a:custGeom>
          <a:solidFill>
            <a:srgbClr val="fbddf7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005360" y="4941720"/>
            <a:ext cx="2592360" cy="64944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4024440" y="4984920"/>
                <a:ext cx="2376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4" name=""/>
          <p:cNvSpPr/>
          <p:nvPr/>
        </p:nvSpPr>
        <p:spPr>
          <a:xfrm>
            <a:off x="4005360" y="5415120"/>
            <a:ext cx="2592360" cy="64908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4465800" y="5140440"/>
                <a:ext cx="214920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т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т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0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9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2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5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8" dur="1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1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4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МАТРИЧНОЙ ФОРМЕ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114560" y="981000"/>
            <a:ext cx="68421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ределение реакций связей в ОСМП   к и н е м а т и ч е с к и м    м е т о д о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908000" y="1374840"/>
            <a:ext cx="5256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через работу концевых усилий и узловых нагру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419640" y="1628640"/>
            <a:ext cx="2376360" cy="57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3505320" y="1646280"/>
                <a:ext cx="21556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32" name=""/>
          <p:cNvSpPr/>
          <p:nvPr/>
        </p:nvSpPr>
        <p:spPr>
          <a:xfrm>
            <a:off x="2843280" y="210492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Ч а с т н ы е    с л у ч а 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98360" y="4627440"/>
            <a:ext cx="1338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вект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узловых нагруз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во всех узлах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419120" y="4603680"/>
            <a:ext cx="1152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ве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переме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всех узл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3416400" y="3306600"/>
                <a:ext cx="107460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⋯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…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,</m:t>
                                  </m:r>
                                  <m:r>
                                    <m:t xml:space="preserve">…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,</m:t>
                                  </m:r>
                                  <m:r>
                                    <m:t xml:space="preserve">…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411280" y="3306600"/>
                <a:ext cx="93852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,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3855960" y="4483080"/>
            <a:ext cx="187344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ект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концевых усил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сех 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т зад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оз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465280" y="4629240"/>
            <a:ext cx="165744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ектор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перемещ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концевых сеч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сех 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241200" y="3306600"/>
                <a:ext cx="110016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1384200" y="3306600"/>
                <a:ext cx="97308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с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с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1" name=""/>
          <p:cNvSpPr/>
          <p:nvPr/>
        </p:nvSpPr>
        <p:spPr>
          <a:xfrm>
            <a:off x="2340000" y="1628640"/>
            <a:ext cx="4680000" cy="50508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2" name=""/>
              <p:cNvSpPr txBox="1"/>
              <p:nvPr/>
            </p:nvSpPr>
            <p:spPr>
              <a:xfrm>
                <a:off x="2400480" y="1619280"/>
                <a:ext cx="25207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2776680" y="1622520"/>
                <a:ext cx="42526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             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4" name=""/>
          <p:cNvSpPr/>
          <p:nvPr/>
        </p:nvSpPr>
        <p:spPr>
          <a:xfrm>
            <a:off x="324000" y="2349360"/>
            <a:ext cx="35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иловое воздейств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4427640" y="2354400"/>
            <a:ext cx="44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зменение температуры и смещения связ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521240" y="2687760"/>
            <a:ext cx="376200" cy="342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532400" y="2655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554360" y="297504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521240" y="3035160"/>
            <a:ext cx="376200" cy="343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890960" y="2678040"/>
            <a:ext cx="142920" cy="719280"/>
          </a:xfrm>
          <a:custGeom>
            <a:avLst/>
            <a:gdLst>
              <a:gd name="textAreaLeft" fmla="*/ 0 w 142920"/>
              <a:gd name="textAreaRight" fmla="*/ 514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952880" y="27972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rot="15279600">
            <a:off x="5960160" y="2696040"/>
            <a:ext cx="179280" cy="412920"/>
          </a:xfrm>
          <a:prstGeom prst="downArrow">
            <a:avLst>
              <a:gd name="adj1" fmla="val 53611"/>
              <a:gd name="adj2" fmla="val 63520"/>
            </a:avLst>
          </a:prstGeom>
          <a:solidFill>
            <a:srgbClr val="dbffc9"/>
          </a:solidFill>
          <a:ln w="28440">
            <a:solidFill>
              <a:srgbClr val="81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rot="17240400">
            <a:off x="5960880" y="2947320"/>
            <a:ext cx="179640" cy="423720"/>
          </a:xfrm>
          <a:prstGeom prst="downArrow">
            <a:avLst>
              <a:gd name="adj1" fmla="val 53611"/>
              <a:gd name="adj2" fmla="val 65050"/>
            </a:avLst>
          </a:prstGeom>
          <a:solidFill>
            <a:srgbClr val="dbffc9"/>
          </a:solidFill>
          <a:ln w="28440">
            <a:solidFill>
              <a:srgbClr val="81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6294600" y="2602080"/>
                <a:ext cx="2474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6278400" y="2981160"/>
                <a:ext cx="2498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с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с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с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6" name=""/>
          <p:cNvSpPr/>
          <p:nvPr/>
        </p:nvSpPr>
        <p:spPr>
          <a:xfrm rot="19854600">
            <a:off x="4780080" y="3413160"/>
            <a:ext cx="139680" cy="214200"/>
          </a:xfrm>
          <a:prstGeom prst="downArrow">
            <a:avLst>
              <a:gd name="adj1" fmla="val 53611"/>
              <a:gd name="adj2" fmla="val 42292"/>
            </a:avLst>
          </a:prstGeom>
          <a:solidFill>
            <a:srgbClr val="dbffc9"/>
          </a:solidFill>
          <a:ln w="28440">
            <a:solidFill>
              <a:srgbClr val="81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4668840" y="349740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ри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Z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84360" y="2604960"/>
            <a:ext cx="2808000" cy="701640"/>
          </a:xfrm>
          <a:prstGeom prst="rect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06320" y="2523960"/>
                <a:ext cx="278604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т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т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т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т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0" name=""/>
          <p:cNvSpPr/>
          <p:nvPr/>
        </p:nvSpPr>
        <p:spPr>
          <a:xfrm>
            <a:off x="6321600" y="3484440"/>
            <a:ext cx="2447640" cy="432000"/>
          </a:xfrm>
          <a:prstGeom prst="rect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6340320" y="3436920"/>
                <a:ext cx="2425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2" name=""/>
          <p:cNvSpPr/>
          <p:nvPr/>
        </p:nvSpPr>
        <p:spPr>
          <a:xfrm>
            <a:off x="6373800" y="3378240"/>
            <a:ext cx="139680" cy="208080"/>
          </a:xfrm>
          <a:prstGeom prst="downArrow">
            <a:avLst>
              <a:gd name="adj1" fmla="val 46602"/>
              <a:gd name="adj2" fmla="val 66029"/>
            </a:avLst>
          </a:prstGeom>
          <a:solidFill>
            <a:srgbClr val="dbffc9"/>
          </a:solidFill>
          <a:ln w="28440">
            <a:solidFill>
              <a:srgbClr val="81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506600" y="502128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м  единичном состоя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4930920" y="3952800"/>
            <a:ext cx="403380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Реакция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й связи во всех единичных состояния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… 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… 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8155080" y="4127400"/>
                <a:ext cx="6649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6" name=""/>
          <p:cNvSpPr/>
          <p:nvPr/>
        </p:nvSpPr>
        <p:spPr>
          <a:xfrm>
            <a:off x="5904000" y="4433760"/>
            <a:ext cx="294156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… 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… 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 –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938920" y="4794120"/>
            <a:ext cx="29718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матрица концевых усилий всех элемен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во всех единичных  состоя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213000" y="5383080"/>
            <a:ext cx="1871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 Black"/>
              </a:rPr>
              <a:t>Матрица</a:t>
            </a:r>
            <a:r>
              <a:rPr b="0" lang="en-US" sz="1200" spc="-1" strike="noStrike">
                <a:solidFill>
                  <a:srgbClr val="990033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990033"/>
                </a:solidFill>
                <a:latin typeface="Arial Black"/>
              </a:rPr>
              <a:t>внешней жёсткости ОСМ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rot="1681800">
            <a:off x="5049360" y="4436640"/>
            <a:ext cx="144720" cy="992160"/>
          </a:xfrm>
          <a:prstGeom prst="downArrow">
            <a:avLst>
              <a:gd name="adj1" fmla="val 54722"/>
              <a:gd name="adj2" fmla="val 134226"/>
            </a:avLst>
          </a:prstGeom>
          <a:solidFill>
            <a:srgbClr val="fbddf7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900760" y="5718240"/>
            <a:ext cx="301464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… 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… 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 –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835600" y="6105600"/>
            <a:ext cx="3168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матрица перемещений концевых сечений всех элементов во всех единичных  состоя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4984920" y="5470560"/>
            <a:ext cx="2663640" cy="28872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5003640" y="4932360"/>
                <a:ext cx="266400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4" name=""/>
          <p:cNvSpPr/>
          <p:nvPr/>
        </p:nvSpPr>
        <p:spPr>
          <a:xfrm>
            <a:off x="181080" y="5351400"/>
            <a:ext cx="172692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 Black"/>
              </a:rPr>
              <a:t>Вектор (матрица)</a:t>
            </a:r>
            <a:r>
              <a:rPr b="0" lang="en-US" sz="1200" spc="-1" strike="noStrike">
                <a:solidFill>
                  <a:srgbClr val="990033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990033"/>
                </a:solidFill>
                <a:latin typeface="Arial Black"/>
              </a:rPr>
              <a:t>реакций связ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 Black"/>
              </a:rPr>
              <a:t>от заданных воздейств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438200" y="5762520"/>
            <a:ext cx="2898720" cy="28908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1476360" y="5272200"/>
                <a:ext cx="287496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7" name=""/>
          <p:cNvSpPr/>
          <p:nvPr/>
        </p:nvSpPr>
        <p:spPr>
          <a:xfrm>
            <a:off x="2349360" y="5940360"/>
            <a:ext cx="301464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… c</a:t>
            </a:r>
            <a:r>
              <a:rPr b="1" i="1" lang="en-US" sz="1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… c</a:t>
            </a:r>
            <a:r>
              <a:rPr b="1" i="1" lang="en-US" sz="1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] –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2600280" y="6289560"/>
            <a:ext cx="23763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матрица перемещений всех узл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во всех единичных  состоя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5" dur="indefinite" restart="never" nodeType="tmRoot">
          <p:childTnLst>
            <p:seq>
              <p:cTn id="1376" dur="indefinite" nodeType="mainSeq">
                <p:childTnLst>
                  <p:par>
                    <p:cTn id="1377" fill="hold">
                      <p:stCondLst>
                        <p:cond delay="0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3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6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3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8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3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0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9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4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1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6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3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8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3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8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3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1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1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2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1" dur="1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6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1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7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2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1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3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8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МАТРИЧНОЙ ФОРМЕ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1114560" y="981000"/>
            <a:ext cx="68421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ределение реакций связей в ОСМП   к и н е м а т и ч е с к и м    м е т о д о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908000" y="1374840"/>
            <a:ext cx="5256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через работу концевых усилий и узловых нагру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7634160" y="4594320"/>
            <a:ext cx="1338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вектор (матриц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узловых нагруз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во всех узлах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578560" y="5727600"/>
            <a:ext cx="10810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е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переме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сех узл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6573960" y="2776680"/>
                <a:ext cx="112392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,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,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3525840" y="4797360"/>
                <a:ext cx="9381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,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>
            <a:off x="7651800" y="3111480"/>
            <a:ext cx="129204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ектор (матриц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концевых усил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сех 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т зад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оз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564000" y="6076800"/>
            <a:ext cx="1871640" cy="5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ектор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перемещ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концевых сеч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сех элементов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6613560" y="4160880"/>
                <a:ext cx="11001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391000" y="4392720"/>
                <a:ext cx="9734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с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с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1" name=""/>
          <p:cNvSpPr/>
          <p:nvPr/>
        </p:nvSpPr>
        <p:spPr>
          <a:xfrm>
            <a:off x="676440" y="3222720"/>
            <a:ext cx="279072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… 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… 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25320" y="3630600"/>
            <a:ext cx="29005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матрица концевых усилий всех элемен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во всех единичных  состоя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1201680" y="1603440"/>
            <a:ext cx="1871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 Black"/>
              </a:rPr>
              <a:t>Матрица</a:t>
            </a:r>
            <a:r>
              <a:rPr b="0" lang="en-US" sz="1200" spc="-1" strike="noStrike">
                <a:solidFill>
                  <a:srgbClr val="990033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990033"/>
                </a:solidFill>
                <a:latin typeface="Arial Black"/>
              </a:rPr>
              <a:t>внешней жёсткости ОСМ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846000" y="5264280"/>
            <a:ext cx="257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… 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… 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22160" y="5635800"/>
            <a:ext cx="2808360" cy="5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матрица перемещений концевых сеч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сех элементов во всех единичных  состоя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307120" y="2421000"/>
            <a:ext cx="3114720" cy="385560"/>
          </a:xfrm>
          <a:prstGeom prst="rect">
            <a:avLst/>
          </a:prstGeom>
          <a:solidFill>
            <a:srgbClr val="f6b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364000" y="1603440"/>
            <a:ext cx="32403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 Black"/>
              </a:rPr>
              <a:t>Вектор (матрица)</a:t>
            </a:r>
            <a:r>
              <a:rPr b="0" lang="en-US" sz="1200" spc="-1" strike="noStrike">
                <a:solidFill>
                  <a:srgbClr val="990033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990033"/>
                </a:solidFill>
                <a:latin typeface="Arial Black"/>
              </a:rPr>
              <a:t>реакций связ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 Black"/>
              </a:rPr>
              <a:t>от заданных воздейств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84360" y="2428920"/>
            <a:ext cx="4105080" cy="360360"/>
          </a:xfrm>
          <a:prstGeom prst="rect">
            <a:avLst/>
          </a:prstGeom>
          <a:solidFill>
            <a:srgbClr val="f6b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5343480" y="1903320"/>
                <a:ext cx="309564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0" name=""/>
          <p:cNvSpPr/>
          <p:nvPr/>
        </p:nvSpPr>
        <p:spPr>
          <a:xfrm>
            <a:off x="4511520" y="3668760"/>
            <a:ext cx="23767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… c</a:t>
            </a:r>
            <a:r>
              <a:rPr b="1" i="1" lang="en-US" sz="1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… c</a:t>
            </a:r>
            <a:r>
              <a:rPr b="1" i="1" lang="en-US" sz="1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521240" y="4075200"/>
            <a:ext cx="23763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матрица перемещений всех узл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во всех единичных  состоя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817560" y="1916280"/>
                <a:ext cx="38908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1717560" y="3959280"/>
                <a:ext cx="110484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,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,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04" name=""/>
          <p:cNvSpPr/>
          <p:nvPr/>
        </p:nvSpPr>
        <p:spPr>
          <a:xfrm>
            <a:off x="2786040" y="4332240"/>
            <a:ext cx="12924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е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концевых усил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сех 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т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765840" y="5580000"/>
            <a:ext cx="2016360" cy="399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риан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анных воздейств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6550200" y="5943600"/>
                <a:ext cx="23698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6664320" y="6275520"/>
                <a:ext cx="21970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,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,t</m:t>
                        </m:r>
                        <m:r>
                          <m:rPr>
                            <m:lit/>
                            <m:nor/>
                          </m:rPr>
                          <m:t xml:space="preserve">,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,t,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,t,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8" name=""/>
          <p:cNvSpPr/>
          <p:nvPr/>
        </p:nvSpPr>
        <p:spPr>
          <a:xfrm>
            <a:off x="2556000" y="3200400"/>
            <a:ext cx="950760" cy="1380960"/>
          </a:xfrm>
          <a:custGeom>
            <a:avLst/>
            <a:gdLst/>
            <a:ahLst/>
            <a:rect l="l" t="t" r="r" b="b"/>
            <a:pathLst>
              <a:path w="599" h="870">
                <a:moveTo>
                  <a:pt x="494" y="0"/>
                </a:moveTo>
                <a:cubicBezTo>
                  <a:pt x="507" y="28"/>
                  <a:pt x="559" y="110"/>
                  <a:pt x="574" y="168"/>
                </a:cubicBezTo>
                <a:cubicBezTo>
                  <a:pt x="589" y="226"/>
                  <a:pt x="599" y="297"/>
                  <a:pt x="582" y="352"/>
                </a:cubicBezTo>
                <a:cubicBezTo>
                  <a:pt x="565" y="407"/>
                  <a:pt x="523" y="452"/>
                  <a:pt x="470" y="496"/>
                </a:cubicBezTo>
                <a:cubicBezTo>
                  <a:pt x="417" y="540"/>
                  <a:pt x="325" y="576"/>
                  <a:pt x="262" y="616"/>
                </a:cubicBezTo>
                <a:cubicBezTo>
                  <a:pt x="199" y="656"/>
                  <a:pt x="135" y="692"/>
                  <a:pt x="91" y="734"/>
                </a:cubicBezTo>
                <a:cubicBezTo>
                  <a:pt x="47" y="776"/>
                  <a:pt x="19" y="824"/>
                  <a:pt x="0" y="87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043080" y="27208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3276720" y="2832120"/>
            <a:ext cx="26762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 закону Гука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348000" y="3068640"/>
            <a:ext cx="24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,k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,k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,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679920" y="3678120"/>
            <a:ext cx="571320" cy="169920"/>
          </a:xfrm>
          <a:custGeom>
            <a:avLst/>
            <a:gdLst/>
            <a:ahLst/>
            <a:rect l="l" t="t" r="r" b="b"/>
            <a:pathLst>
              <a:path w="360" h="107">
                <a:moveTo>
                  <a:pt x="360" y="0"/>
                </a:moveTo>
                <a:cubicBezTo>
                  <a:pt x="352" y="6"/>
                  <a:pt x="347" y="29"/>
                  <a:pt x="312" y="35"/>
                </a:cubicBezTo>
                <a:cubicBezTo>
                  <a:pt x="277" y="41"/>
                  <a:pt x="190" y="35"/>
                  <a:pt x="151" y="38"/>
                </a:cubicBezTo>
                <a:cubicBezTo>
                  <a:pt x="112" y="41"/>
                  <a:pt x="105" y="40"/>
                  <a:pt x="80" y="51"/>
                </a:cubicBezTo>
                <a:cubicBezTo>
                  <a:pt x="55" y="62"/>
                  <a:pt x="17" y="95"/>
                  <a:pt x="0" y="107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276720" y="374508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3371760" y="4091040"/>
            <a:ext cx="1081080" cy="405720"/>
          </a:xfrm>
          <a:prstGeom prst="rect">
            <a:avLst/>
          </a:prstGeom>
          <a:solidFill>
            <a:srgbClr val="f6b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0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1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6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5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0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7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7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3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4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1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0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5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0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5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4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1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3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8" dur="1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7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2" dur="80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3" dur="80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4" dur="80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1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6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8" dur="1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1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4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0" dur="1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МАТРИЧНОЙ ФОРМЕ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114560" y="981000"/>
            <a:ext cx="68421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ределение реакций связей в ОСМП   к и н е м а т и ч е с к и м    м е т о д о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908000" y="1374840"/>
            <a:ext cx="5256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через работу концевых усилий и узловых нагру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7634160" y="4594320"/>
            <a:ext cx="1338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вектор (матриц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узловых нагруз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во всех узлах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578560" y="5727600"/>
            <a:ext cx="10810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е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переме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сех узл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6573960" y="2776680"/>
                <a:ext cx="112392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,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,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3525840" y="4797360"/>
                <a:ext cx="9381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,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3" name=""/>
          <p:cNvSpPr/>
          <p:nvPr/>
        </p:nvSpPr>
        <p:spPr>
          <a:xfrm>
            <a:off x="7651800" y="3111480"/>
            <a:ext cx="1292040" cy="8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ектор (матриц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концевых усил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сех 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т зад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оз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3564000" y="6076800"/>
            <a:ext cx="1871640" cy="5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ектор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перемещ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концевых сеч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сех элементов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6613560" y="4160880"/>
                <a:ext cx="11001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5391000" y="4392720"/>
                <a:ext cx="9734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с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с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676440" y="3222720"/>
            <a:ext cx="279072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… 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… 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25320" y="3630600"/>
            <a:ext cx="290052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матрица концевых усилий всех элемен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во всех единичных  состоя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201680" y="1603440"/>
            <a:ext cx="1871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 Black"/>
              </a:rPr>
              <a:t>Матрица</a:t>
            </a:r>
            <a:r>
              <a:rPr b="0" lang="en-US" sz="1200" spc="-1" strike="noStrike">
                <a:solidFill>
                  <a:srgbClr val="990033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990033"/>
                </a:solidFill>
                <a:latin typeface="Arial Black"/>
              </a:rPr>
              <a:t>внешней жёсткости ОСМ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846000" y="5264280"/>
            <a:ext cx="257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… 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… 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722160" y="5635800"/>
            <a:ext cx="2808360" cy="5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матрица перемещений концевых сеч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сех элементов во всех единичных  состоя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307120" y="2421000"/>
            <a:ext cx="3114720" cy="385560"/>
          </a:xfrm>
          <a:prstGeom prst="rect">
            <a:avLst/>
          </a:prstGeom>
          <a:solidFill>
            <a:srgbClr val="f6b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364000" y="1603440"/>
            <a:ext cx="32403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 Black"/>
              </a:rPr>
              <a:t>Вектор (матрица)</a:t>
            </a:r>
            <a:r>
              <a:rPr b="0" lang="en-US" sz="1200" spc="-1" strike="noStrike">
                <a:solidFill>
                  <a:srgbClr val="990033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990033"/>
                </a:solidFill>
                <a:latin typeface="Arial Black"/>
              </a:rPr>
              <a:t>реакций связ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 Black"/>
              </a:rPr>
              <a:t>от заданных воздейств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84360" y="2428920"/>
            <a:ext cx="4105080" cy="360360"/>
          </a:xfrm>
          <a:prstGeom prst="rect">
            <a:avLst/>
          </a:prstGeom>
          <a:solidFill>
            <a:srgbClr val="f6b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5343480" y="1903320"/>
                <a:ext cx="309564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6" name=""/>
          <p:cNvSpPr/>
          <p:nvPr/>
        </p:nvSpPr>
        <p:spPr>
          <a:xfrm>
            <a:off x="4511520" y="3668760"/>
            <a:ext cx="23767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… c</a:t>
            </a:r>
            <a:r>
              <a:rPr b="1" i="1" lang="en-US" sz="19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… c</a:t>
            </a:r>
            <a:r>
              <a:rPr b="1" i="1" lang="en-US" sz="1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521240" y="4075200"/>
            <a:ext cx="237636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матрица перемещений всех узл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во всех единичных  состоя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717560" y="3959280"/>
                <a:ext cx="110484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j,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,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2786040" y="4332240"/>
            <a:ext cx="12924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ек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концевых усил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всех эле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т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765840" y="5580000"/>
            <a:ext cx="2016360" cy="399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риан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анных воздейств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6550200" y="5950080"/>
                <a:ext cx="23698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6664320" y="6275520"/>
                <a:ext cx="21970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,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,t</m:t>
                        </m:r>
                        <m:r>
                          <m:rPr>
                            <m:lit/>
                            <m:nor/>
                          </m:rPr>
                          <m:t xml:space="preserve">,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,t,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,t,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3" name=""/>
          <p:cNvSpPr/>
          <p:nvPr/>
        </p:nvSpPr>
        <p:spPr>
          <a:xfrm>
            <a:off x="3371760" y="4091040"/>
            <a:ext cx="1081080" cy="405720"/>
          </a:xfrm>
          <a:prstGeom prst="rect">
            <a:avLst/>
          </a:prstGeom>
          <a:solidFill>
            <a:srgbClr val="f6b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348000" y="3297240"/>
            <a:ext cx="912960" cy="405720"/>
          </a:xfrm>
          <a:prstGeom prst="rect">
            <a:avLst/>
          </a:prstGeom>
          <a:solidFill>
            <a:srgbClr val="f6b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803760" y="2430360"/>
            <a:ext cx="1128600" cy="658440"/>
          </a:xfrm>
          <a:prstGeom prst="rect">
            <a:avLst/>
          </a:prstGeom>
          <a:solidFill>
            <a:srgbClr val="f6b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т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817560" y="1916280"/>
                <a:ext cx="38908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 flipV="1" rot="1682400">
            <a:off x="3922560" y="3030120"/>
            <a:ext cx="169920" cy="314280"/>
          </a:xfrm>
          <a:prstGeom prst="downArrow">
            <a:avLst>
              <a:gd name="adj1" fmla="val 46009"/>
              <a:gd name="adj2" fmla="val 76946"/>
            </a:avLst>
          </a:prstGeom>
          <a:solidFill>
            <a:srgbClr val="fbddf7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928960" y="1798560"/>
            <a:ext cx="2986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ag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K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K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атрица внутренней жёсткости ОСМ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3" dur="indefinite" restart="never" nodeType="tmRoot">
          <p:childTnLst>
            <p:seq>
              <p:cTn id="1864" dur="indefinite" nodeType="mainSeq">
                <p:childTnLst>
                  <p:par>
                    <p:cTn id="1865" fill="hold">
                      <p:stCondLst>
                        <p:cond delay="0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9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3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4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1" dur="80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2" dur="80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3" dur="80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237960" y="260280"/>
            <a:ext cx="8685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МАТРИЧНОЙ ФОРМЕ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4560" y="981000"/>
            <a:ext cx="68421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ределение реакций связей в ОСМП   к и н е м а т и ч е с к и м    м е т о д о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27240" y="1341360"/>
            <a:ext cx="33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 способом перемножения эпю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12640" y="1916280"/>
                <a:ext cx="432612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343480" y="2077920"/>
                <a:ext cx="1366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  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49360" y="4014720"/>
                <a:ext cx="185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0</m:t>
                        </m:r>
                      </m:sub>
                    </m:sSub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Σ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7164360" y="2030400"/>
            <a:ext cx="1511280" cy="504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7342200" y="2079720"/>
                <a:ext cx="11653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B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855880" y="4003560"/>
                <a:ext cx="2820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0</m:t>
                        </m:r>
                      </m:sub>
                    </m:sSub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Σ</m:t>
                        </m:r>
                      </m:sub>
                      <m:sup/>
                    </m:sSubSup>
                    <m:r>
                      <m:t xml:space="preserve"> 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Σ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Σ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651040" y="4878360"/>
                <a:ext cx="3954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B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0</m:t>
                        </m:r>
                      </m:sub>
                    </m:sSub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Σ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 rot="16200000">
            <a:off x="5027400" y="2117160"/>
            <a:ext cx="174600" cy="358560"/>
          </a:xfrm>
          <a:prstGeom prst="downArrow">
            <a:avLst>
              <a:gd name="adj1" fmla="val 50000"/>
              <a:gd name="adj2" fmla="val 51340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6836400" y="2151360"/>
            <a:ext cx="174600" cy="287280"/>
          </a:xfrm>
          <a:prstGeom prst="downArrow">
            <a:avLst>
              <a:gd name="adj1" fmla="val 50000"/>
              <a:gd name="adj2" fmla="val 41134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9960" y="3641760"/>
            <a:ext cx="174600" cy="358920"/>
          </a:xfrm>
          <a:prstGeom prst="downArrow">
            <a:avLst>
              <a:gd name="adj1" fmla="val 50000"/>
              <a:gd name="adj2" fmla="val 51392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493000" y="4086360"/>
            <a:ext cx="174600" cy="287280"/>
          </a:xfrm>
          <a:prstGeom prst="downArrow">
            <a:avLst>
              <a:gd name="adj1" fmla="val 50000"/>
              <a:gd name="adj2" fmla="val 41134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11200" y="2860560"/>
                <a:ext cx="822636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iΣ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F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nary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по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</m:sub>
                              <m:sup/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  <m:e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ε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S,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nary>
                              </m:e>
                            </m:nary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 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n</m:t>
                                </m:r>
                              </m:e>
                            </m:bar>
                          </m:e>
                        </m:nary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2050920" y="5653080"/>
            <a:ext cx="51134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233440" y="5683320"/>
                <a:ext cx="47786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B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0</m:t>
                        </m:r>
                      </m:sub>
                    </m:sSub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Σ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7236000" y="4869000"/>
            <a:ext cx="144360" cy="1296720"/>
          </a:xfrm>
          <a:custGeom>
            <a:avLst/>
            <a:gdLst>
              <a:gd name="textAreaLeft" fmla="*/ 0 w 144360"/>
              <a:gd name="textAreaRight" fmla="*/ 52200 w 14436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67760" y="5330880"/>
            <a:ext cx="158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Формально – как в методе с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0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МАТРИЧНОЙ ФОРМЕ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403280" y="981000"/>
            <a:ext cx="633744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ение основных неизвестных МП и искомых усил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 flipV="1" rot="3364800">
            <a:off x="5614200" y="1689480"/>
            <a:ext cx="144360" cy="314280"/>
          </a:xfrm>
          <a:prstGeom prst="downArrow">
            <a:avLst>
              <a:gd name="adj1" fmla="val 41519"/>
              <a:gd name="adj2" fmla="val 78112"/>
            </a:avLst>
          </a:prstGeom>
          <a:solidFill>
            <a:srgbClr val="fbddf7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3" name=""/>
              <p:cNvSpPr txBox="1"/>
              <p:nvPr/>
            </p:nvSpPr>
            <p:spPr>
              <a:xfrm>
                <a:off x="3843360" y="1731960"/>
                <a:ext cx="1677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4" name=""/>
          <p:cNvSpPr/>
          <p:nvPr/>
        </p:nvSpPr>
        <p:spPr>
          <a:xfrm>
            <a:off x="539640" y="1727280"/>
            <a:ext cx="273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МП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 +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5775480" y="1474920"/>
                <a:ext cx="29098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6" name=""/>
          <p:cNvSpPr/>
          <p:nvPr/>
        </p:nvSpPr>
        <p:spPr>
          <a:xfrm flipV="1" rot="7143600">
            <a:off x="5626080" y="1934640"/>
            <a:ext cx="144720" cy="314280"/>
          </a:xfrm>
          <a:prstGeom prst="downArrow">
            <a:avLst>
              <a:gd name="adj1" fmla="val 41519"/>
              <a:gd name="adj2" fmla="val 77918"/>
            </a:avLst>
          </a:prstGeom>
          <a:solidFill>
            <a:srgbClr val="fbddf7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5740560" y="1957320"/>
                <a:ext cx="29574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8" name=""/>
          <p:cNvSpPr/>
          <p:nvPr/>
        </p:nvSpPr>
        <p:spPr>
          <a:xfrm flipV="1" rot="5294400">
            <a:off x="3420360" y="1712880"/>
            <a:ext cx="216000" cy="503640"/>
          </a:xfrm>
          <a:prstGeom prst="downArrow">
            <a:avLst>
              <a:gd name="adj1" fmla="val 41519"/>
              <a:gd name="adj2" fmla="val 83659"/>
            </a:avLst>
          </a:prstGeom>
          <a:solidFill>
            <a:srgbClr val="fbddf7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195640" y="2637000"/>
            <a:ext cx="4681440" cy="307080"/>
          </a:xfrm>
          <a:prstGeom prst="rect">
            <a:avLst/>
          </a:prstGeom>
          <a:solidFill>
            <a:srgbClr val="f6b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комые усилия в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концевых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сечения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1679400" y="3335400"/>
                <a:ext cx="5256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2522520" y="3068640"/>
                <a:ext cx="48578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2" name=""/>
          <p:cNvSpPr/>
          <p:nvPr/>
        </p:nvSpPr>
        <p:spPr>
          <a:xfrm flipV="1" rot="3364800">
            <a:off x="2302560" y="3240360"/>
            <a:ext cx="144720" cy="315000"/>
          </a:xfrm>
          <a:prstGeom prst="downArrow">
            <a:avLst>
              <a:gd name="adj1" fmla="val 41519"/>
              <a:gd name="adj2" fmla="val 78096"/>
            </a:avLst>
          </a:prstGeom>
          <a:solidFill>
            <a:srgbClr val="fbddf7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 flipV="1" rot="7143600">
            <a:off x="2315160" y="3511080"/>
            <a:ext cx="144720" cy="314280"/>
          </a:xfrm>
          <a:prstGeom prst="downArrow">
            <a:avLst>
              <a:gd name="adj1" fmla="val 41519"/>
              <a:gd name="adj2" fmla="val 77918"/>
            </a:avLst>
          </a:prstGeom>
          <a:solidFill>
            <a:srgbClr val="fbddf7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050920" y="4724280"/>
            <a:ext cx="4969080" cy="307080"/>
          </a:xfrm>
          <a:prstGeom prst="rect">
            <a:avLst/>
          </a:prstGeom>
          <a:solidFill>
            <a:srgbClr val="f6b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комые усилия в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назначенных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ечения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3979800" y="5156280"/>
                <a:ext cx="358308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6" name=""/>
          <p:cNvSpPr/>
          <p:nvPr/>
        </p:nvSpPr>
        <p:spPr>
          <a:xfrm flipV="1" rot="7143600">
            <a:off x="3765960" y="5598720"/>
            <a:ext cx="144720" cy="314280"/>
          </a:xfrm>
          <a:prstGeom prst="downArrow">
            <a:avLst>
              <a:gd name="adj1" fmla="val 41519"/>
              <a:gd name="adj2" fmla="val 77918"/>
            </a:avLst>
          </a:prstGeom>
          <a:solidFill>
            <a:srgbClr val="fbddf7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989520" y="5629320"/>
                <a:ext cx="36320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1816200" y="5389560"/>
                <a:ext cx="1850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9" name=""/>
          <p:cNvSpPr/>
          <p:nvPr/>
        </p:nvSpPr>
        <p:spPr>
          <a:xfrm flipV="1" rot="3436800">
            <a:off x="3753720" y="5345280"/>
            <a:ext cx="144360" cy="314280"/>
          </a:xfrm>
          <a:prstGeom prst="downArrow">
            <a:avLst>
              <a:gd name="adj1" fmla="val 41519"/>
              <a:gd name="adj2" fmla="val 78112"/>
            </a:avLst>
          </a:prstGeom>
          <a:solidFill>
            <a:srgbClr val="fbddf7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778120" y="3624120"/>
            <a:ext cx="471600" cy="71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2540160" y="3552840"/>
                <a:ext cx="50749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2" name=""/>
          <p:cNvSpPr/>
          <p:nvPr/>
        </p:nvSpPr>
        <p:spPr>
          <a:xfrm>
            <a:off x="2824200" y="3946680"/>
            <a:ext cx="28843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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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2200" spc="-1" strike="noStrike" baseline="30000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rot="5400000">
            <a:off x="2950560" y="3800160"/>
            <a:ext cx="108000" cy="358920"/>
          </a:xfrm>
          <a:custGeom>
            <a:avLst/>
            <a:gdLst>
              <a:gd name="textAreaLeft" fmla="*/ 0 w 108000"/>
              <a:gd name="textAreaRight" fmla="*/ 38880 w 108000"/>
              <a:gd name="textAreaTop" fmla="*/ 9360 h 358920"/>
              <a:gd name="textAreaBottom" fmla="*/ 34956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4" dur="indefinite" restart="never" nodeType="tmRoot">
          <p:childTnLst>
            <p:seq>
              <p:cTn id="1895" dur="indefinite" nodeType="mainSeq">
                <p:childTnLst>
                  <p:par>
                    <p:cTn id="1896" fill="hold">
                      <p:stCondLst>
                        <p:cond delay="0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0" dur="80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1" dur="80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2" dur="80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9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6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1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8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3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5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0" dur="80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1" dur="80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2" dur="80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9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1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4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10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9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6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1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3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8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9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10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3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8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5" dur="80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6" dur="80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7" dur="80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4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9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4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1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8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>
            <a:hlinkClick r:id="" action="ppaction://hlinkshowjump?jump=nextslide"/>
          </p:cNvPr>
          <p:cNvSpPr/>
          <p:nvPr/>
        </p:nvSpPr>
        <p:spPr>
          <a:xfrm>
            <a:off x="250920" y="320760"/>
            <a:ext cx="8642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МАТРИЦЫ КОНЦЕВЫХ УСИЛИЙ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ЕРЕМЕЩЕНИЙ КОНЦЕВЫХ СЕЧ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И  ВНУТРЕННЕЙ ЖЁСТКОСТИ  ТИПОВЫХ ЭЛЕМЕНТОВ ПЛОСКИХ ОСМП</a:t>
            </a: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6" name=""/>
          <p:cNvGraphicFramePr/>
          <p:nvPr/>
        </p:nvGraphicFramePr>
        <p:xfrm>
          <a:off x="276120" y="981000"/>
          <a:ext cx="8569440" cy="5604120"/>
        </p:xfrm>
        <a:graphic>
          <a:graphicData uri="http://schemas.openxmlformats.org/drawingml/2006/table">
            <a:tbl>
              <a:tblPr/>
              <a:tblGrid>
                <a:gridCol w="1703520"/>
                <a:gridCol w="1152360"/>
                <a:gridCol w="1008360"/>
                <a:gridCol w="1223640"/>
                <a:gridCol w="3481560"/>
              </a:tblGrid>
              <a:tr h="28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и сх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счё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луч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а матр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рица внутренней жёстк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онцев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сил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,k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,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1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ерем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онцевых сечени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,</a:t>
                      </a:r>
                      <a:r>
                        <a:rPr b="1" i="1" lang="de-DE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1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i="1" lang="en-US" sz="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8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7" name=""/>
          <p:cNvSpPr/>
          <p:nvPr/>
        </p:nvSpPr>
        <p:spPr>
          <a:xfrm>
            <a:off x="633240" y="3008160"/>
            <a:ext cx="7164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706320" y="30081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568520" y="3008160"/>
            <a:ext cx="7128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1568520" y="30081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08120" y="311616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11280" y="2492280"/>
            <a:ext cx="107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=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652320" y="2836800"/>
            <a:ext cx="289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1341360" y="2836800"/>
            <a:ext cx="289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20640" y="3056040"/>
            <a:ext cx="433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220760" y="3056040"/>
            <a:ext cx="433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704880" y="31878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566720" y="31878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703440" y="3357720"/>
            <a:ext cx="8650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1023840" y="3195720"/>
            <a:ext cx="289080" cy="326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24000" y="3435480"/>
            <a:ext cx="1584000" cy="6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– погон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изгибная жёсткость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го эле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727200" y="4816440"/>
            <a:ext cx="82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689040" y="4535640"/>
            <a:ext cx="288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279440" y="4726080"/>
            <a:ext cx="289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736560" y="452124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464760" y="481644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527120" y="481644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552680" y="480384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rot="14253600">
            <a:off x="611640" y="4688280"/>
            <a:ext cx="252360" cy="24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96" y="17328"/>
                </a:moveTo>
                <a:arcTo wR="10800" hR="10800" stAng="8568595" swAng="13031405"/>
                <a:lnTo>
                  <a:pt x="10800" y="10800"/>
                </a:lnTo>
                <a:close/>
              </a:path>
              <a:path fill="none" w="21600" h="21600">
                <a:moveTo>
                  <a:pt x="2196" y="17328"/>
                </a:moveTo>
                <a:arcTo wR="10800" hR="10800" stAng="8568595" swAng="13031405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rot="3790200">
            <a:off x="1419120" y="4697280"/>
            <a:ext cx="252000" cy="24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96" y="17328"/>
                </a:moveTo>
                <a:arcTo wR="10800" hR="10800" stAng="8568595" swAng="13031405"/>
                <a:lnTo>
                  <a:pt x="10800" y="10800"/>
                </a:lnTo>
                <a:close/>
              </a:path>
              <a:path fill="none" w="21600" h="21600">
                <a:moveTo>
                  <a:pt x="2196" y="17328"/>
                </a:moveTo>
                <a:arcTo wR="10800" hR="10800" stAng="8568595" swAng="13031405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546120" y="4275000"/>
            <a:ext cx="576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bj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2240" y="4697280"/>
            <a:ext cx="576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bj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270000" y="4456080"/>
            <a:ext cx="544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bj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344600" y="4444920"/>
            <a:ext cx="544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ej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574640" y="4786200"/>
            <a:ext cx="544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ej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293840" y="4954680"/>
            <a:ext cx="544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ej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836640" y="4141800"/>
            <a:ext cx="1008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Конце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усилия (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gt;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730080" y="5668920"/>
            <a:ext cx="827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2200" y="5456160"/>
            <a:ext cx="144360" cy="21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735120" y="56275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560600" y="56275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554120" y="5661000"/>
            <a:ext cx="144360" cy="289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flipV="1">
            <a:off x="592200" y="54529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1701720" y="566892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 flipH="1">
            <a:off x="591840" y="566892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1560600" y="566892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96880" y="5432400"/>
            <a:ext cx="1104840" cy="539640"/>
          </a:xfrm>
          <a:custGeom>
            <a:avLst/>
            <a:gdLst/>
            <a:ahLst/>
            <a:rect l="l" t="t" r="r" b="b"/>
            <a:pathLst>
              <a:path w="696" h="340">
                <a:moveTo>
                  <a:pt x="0" y="0"/>
                </a:moveTo>
                <a:cubicBezTo>
                  <a:pt x="17" y="10"/>
                  <a:pt x="61" y="41"/>
                  <a:pt x="100" y="58"/>
                </a:cubicBezTo>
                <a:cubicBezTo>
                  <a:pt x="139" y="75"/>
                  <a:pt x="175" y="83"/>
                  <a:pt x="236" y="103"/>
                </a:cubicBezTo>
                <a:cubicBezTo>
                  <a:pt x="297" y="123"/>
                  <a:pt x="402" y="151"/>
                  <a:pt x="464" y="176"/>
                </a:cubicBezTo>
                <a:cubicBezTo>
                  <a:pt x="526" y="201"/>
                  <a:pt x="569" y="229"/>
                  <a:pt x="608" y="256"/>
                </a:cubicBezTo>
                <a:cubicBezTo>
                  <a:pt x="647" y="283"/>
                  <a:pt x="678" y="322"/>
                  <a:pt x="696" y="3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61880" y="5587920"/>
            <a:ext cx="419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bj,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263520" y="5246640"/>
            <a:ext cx="419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bj,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560600" y="5891040"/>
            <a:ext cx="419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ej,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1488960" y="5400720"/>
            <a:ext cx="419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ej,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8320" y="5421240"/>
            <a:ext cx="289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1409760" y="5975280"/>
            <a:ext cx="288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828720" y="5423040"/>
            <a:ext cx="28440" cy="123840"/>
          </a:xfrm>
          <a:custGeom>
            <a:avLst/>
            <a:gdLst/>
            <a:ahLst/>
            <a:rect l="l" t="t" r="r" b="b"/>
            <a:pathLst>
              <a:path w="18" h="78">
                <a:moveTo>
                  <a:pt x="18" y="0"/>
                </a:moveTo>
                <a:cubicBezTo>
                  <a:pt x="18" y="6"/>
                  <a:pt x="18" y="23"/>
                  <a:pt x="15" y="36"/>
                </a:cubicBezTo>
                <a:cubicBezTo>
                  <a:pt x="12" y="49"/>
                  <a:pt x="3" y="69"/>
                  <a:pt x="0" y="78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438200" y="5803920"/>
            <a:ext cx="52560" cy="166680"/>
          </a:xfrm>
          <a:custGeom>
            <a:avLst/>
            <a:gdLst/>
            <a:ahLst/>
            <a:rect l="l" t="t" r="r" b="b"/>
            <a:pathLst>
              <a:path w="33" h="105">
                <a:moveTo>
                  <a:pt x="0" y="105"/>
                </a:moveTo>
                <a:cubicBezTo>
                  <a:pt x="1" y="97"/>
                  <a:pt x="1" y="74"/>
                  <a:pt x="6" y="57"/>
                </a:cubicBezTo>
                <a:cubicBezTo>
                  <a:pt x="11" y="40"/>
                  <a:pt x="27" y="12"/>
                  <a:pt x="33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803160" y="5332320"/>
            <a:ext cx="419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bj,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1104840" y="5724360"/>
            <a:ext cx="419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ej,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736560" y="48261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1562040" y="52484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324000" y="5956200"/>
            <a:ext cx="1079280" cy="5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Перемещенияконцев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сечений (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gt;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2197080" y="5310360"/>
            <a:ext cx="934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j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114640" y="5383080"/>
            <a:ext cx="144360" cy="503280"/>
          </a:xfrm>
          <a:custGeom>
            <a:avLst/>
            <a:gdLst>
              <a:gd name="textAreaLeft" fmla="*/ 92160 w 144360"/>
              <a:gd name="textAreaRight" fmla="*/ 144360 w 14436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3301920" y="2376360"/>
                <a:ext cx="71928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4497480" y="2408400"/>
                <a:ext cx="55404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5" name=""/>
          <p:cNvSpPr/>
          <p:nvPr/>
        </p:nvSpPr>
        <p:spPr>
          <a:xfrm>
            <a:off x="3102120" y="4068720"/>
            <a:ext cx="107928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…» = «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л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5410080" y="2421000"/>
                <a:ext cx="3384720" cy="16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5580000" y="4968720"/>
                <a:ext cx="307188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3289320" y="4940280"/>
                <a:ext cx="71928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4513320" y="4940280"/>
                <a:ext cx="55404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0" name=""/>
          <p:cNvSpPr/>
          <p:nvPr/>
        </p:nvSpPr>
        <p:spPr>
          <a:xfrm>
            <a:off x="566640" y="2133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Т и п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979640" y="31417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986120" y="49957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а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390840" y="2975040"/>
            <a:ext cx="5329440" cy="25884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468600" y="3747960"/>
            <a:ext cx="1444680" cy="25272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533920" y="3811680"/>
            <a:ext cx="3205440" cy="21564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726240" y="3278160"/>
            <a:ext cx="322200" cy="44136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688080" y="2492280"/>
            <a:ext cx="322200" cy="46044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8326440" y="3284640"/>
            <a:ext cx="322200" cy="43812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8332920" y="2495520"/>
            <a:ext cx="322200" cy="42876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9" dur="indefinite" restart="never" nodeType="tmRoot">
          <p:childTnLst>
            <p:seq>
              <p:cTn id="2040" dur="indefinite" nodeType="mainSeq">
                <p:childTnLst>
                  <p:par>
                    <p:cTn id="2041" fill="hold">
                      <p:stCondLst>
                        <p:cond delay="0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5" dur="80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6" dur="80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7" dur="80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2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7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8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1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3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7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2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8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2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3" dur="1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7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8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2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3" dur="1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7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2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3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7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2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7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8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2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6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8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1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2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3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6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10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8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1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3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1" dur="1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3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8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10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3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8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3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1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8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1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1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3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6" dur="1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8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3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8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1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3" dur="1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6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8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1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3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8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0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3" dur="1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1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8" dur="1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1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0" dur="1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3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5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8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1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3" dur="1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1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5" dur="1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0" dur="1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3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5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8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0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5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8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0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3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5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8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0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5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8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0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5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8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0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5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0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3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5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0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3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5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0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3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5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0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2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7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8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2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7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8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6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9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1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6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9" dur="1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1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6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9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1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4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6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3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8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1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3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7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0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3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6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9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2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5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1" name=""/>
          <p:cNvGraphicFramePr/>
          <p:nvPr/>
        </p:nvGraphicFramePr>
        <p:xfrm>
          <a:off x="276120" y="295200"/>
          <a:ext cx="8569440" cy="6302520"/>
        </p:xfrm>
        <a:graphic>
          <a:graphicData uri="http://schemas.openxmlformats.org/drawingml/2006/table">
            <a:tbl>
              <a:tblPr/>
              <a:tblGrid>
                <a:gridCol w="1703520"/>
                <a:gridCol w="1152360"/>
                <a:gridCol w="1008360"/>
                <a:gridCol w="1223640"/>
                <a:gridCol w="3481560"/>
              </a:tblGrid>
              <a:tr h="28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и сх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счё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луч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а матр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рица внутренней жёстк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онцев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сил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,k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,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1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ерем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онцевых сечени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i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,</a:t>
                      </a:r>
                      <a:r>
                        <a:rPr b="1" i="1" lang="de-DE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1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1" i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i="1" lang="en-US" sz="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9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6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2" name=""/>
          <p:cNvSpPr/>
          <p:nvPr/>
        </p:nvSpPr>
        <p:spPr>
          <a:xfrm>
            <a:off x="633240" y="2216160"/>
            <a:ext cx="7164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06320" y="22161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568520" y="2216160"/>
            <a:ext cx="7128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568520" y="22161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08120" y="232416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11280" y="1700280"/>
            <a:ext cx="107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=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52320" y="2044800"/>
            <a:ext cx="289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325520" y="2044800"/>
            <a:ext cx="289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704880" y="232416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566720" y="232416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03440" y="2492280"/>
            <a:ext cx="8650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023840" y="2349360"/>
            <a:ext cx="289080" cy="326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2668680"/>
            <a:ext cx="180000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бозначения  и  прав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знаков концевых усил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и  перемещений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такие же,  как для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элемент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ипа 1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но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ej,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и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ej,…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Narrow"/>
              </a:rPr>
              <a:t>не  описыв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31840" y="3998880"/>
            <a:ext cx="1800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Безызгибный стерж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при растяжении (сжат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197080" y="3122640"/>
            <a:ext cx="934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j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114640" y="3195720"/>
            <a:ext cx="144360" cy="503280"/>
          </a:xfrm>
          <a:custGeom>
            <a:avLst/>
            <a:gdLst>
              <a:gd name="textAreaLeft" fmla="*/ 92160 w 144360"/>
              <a:gd name="textAreaRight" fmla="*/ 144360 w 14436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3301920" y="1420920"/>
                <a:ext cx="71928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4497480" y="1433520"/>
                <a:ext cx="55404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5457960" y="1428840"/>
                <a:ext cx="3316320" cy="14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5940360" y="2878200"/>
                <a:ext cx="230364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3289320" y="2871720"/>
                <a:ext cx="7192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4513320" y="2881440"/>
                <a:ext cx="554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74" name=""/>
          <p:cNvSpPr/>
          <p:nvPr/>
        </p:nvSpPr>
        <p:spPr>
          <a:xfrm>
            <a:off x="566640" y="1413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Т и п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979640" y="19890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986120" y="285588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а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527120" y="22860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352680" y="2023920"/>
            <a:ext cx="5329440" cy="25272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390840" y="2529000"/>
            <a:ext cx="5256360" cy="25236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942240" y="1522440"/>
            <a:ext cx="322200" cy="40320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8210520" y="1522440"/>
            <a:ext cx="322200" cy="40320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934320" y="2195640"/>
            <a:ext cx="322200" cy="29664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223120" y="2214720"/>
            <a:ext cx="322560" cy="29664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606600" y="4554360"/>
            <a:ext cx="71280" cy="216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79320" y="4554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541520" y="4554360"/>
            <a:ext cx="71280" cy="216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541520" y="4554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681120" y="466236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58800" y="4282920"/>
            <a:ext cx="10796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=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625320" y="4384800"/>
            <a:ext cx="289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1298520" y="4384800"/>
            <a:ext cx="289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677880" y="471168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1539720" y="471168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676440" y="4890960"/>
            <a:ext cx="8650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996840" y="4703760"/>
            <a:ext cx="289080" cy="326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39640" y="37609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Т и п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1500120" y="46245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601560" y="4606920"/>
            <a:ext cx="433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189080" y="4613400"/>
            <a:ext cx="433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639720" y="462744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1979640" y="394668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2190600" y="4562640"/>
            <a:ext cx="93528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bj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2108160" y="4621320"/>
            <a:ext cx="160200" cy="369720"/>
          </a:xfrm>
          <a:custGeom>
            <a:avLst/>
            <a:gdLst>
              <a:gd name="textAreaLeft" fmla="*/ 102240 w 160200"/>
              <a:gd name="textAreaRight" fmla="*/ 160560 w 160200"/>
              <a:gd name="textAreaTop" fmla="*/ 9360 h 369720"/>
              <a:gd name="textAreaBottom" fmla="*/ 360360 h 36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979640" y="437508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а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231840" y="5281560"/>
            <a:ext cx="1800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Поперечно нагруженный стерж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25320" y="6102360"/>
            <a:ext cx="71640" cy="216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98400" y="6102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1560600" y="6102360"/>
            <a:ext cx="7128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560600" y="6102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700200" y="621036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677880" y="5830920"/>
            <a:ext cx="10796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=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44400" y="5932440"/>
            <a:ext cx="289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317600" y="5932440"/>
            <a:ext cx="289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696960" y="625968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558800" y="625968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695160" y="6438960"/>
            <a:ext cx="86544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015920" y="6245280"/>
            <a:ext cx="289080" cy="326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58720" y="49816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Т и п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1519200" y="61722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620640" y="6154560"/>
            <a:ext cx="433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1208160" y="6161040"/>
            <a:ext cx="433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58800" y="61754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846000" y="5626080"/>
                <a:ext cx="505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4" name=""/>
          <p:cNvSpPr/>
          <p:nvPr/>
        </p:nvSpPr>
        <p:spPr>
          <a:xfrm>
            <a:off x="1979640" y="534528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190600" y="6132600"/>
            <a:ext cx="93528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bj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2108160" y="6200640"/>
            <a:ext cx="160200" cy="370080"/>
          </a:xfrm>
          <a:custGeom>
            <a:avLst/>
            <a:gdLst>
              <a:gd name="textAreaLeft" fmla="*/ 102240 w 160200"/>
              <a:gd name="textAreaRight" fmla="*/ 160560 w 160200"/>
              <a:gd name="textAreaTop" fmla="*/ 9360 h 370080"/>
              <a:gd name="textAreaBottom" fmla="*/ 360720 h 37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979640" y="59641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а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3305160" y="3797280"/>
                <a:ext cx="681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9" name=""/>
              <p:cNvSpPr txBox="1"/>
              <p:nvPr/>
            </p:nvSpPr>
            <p:spPr>
              <a:xfrm>
                <a:off x="4510080" y="3807000"/>
                <a:ext cx="5540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6391440" y="3808440"/>
                <a:ext cx="14871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 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1" name=""/>
          <p:cNvSpPr/>
          <p:nvPr/>
        </p:nvSpPr>
        <p:spPr>
          <a:xfrm>
            <a:off x="3490920" y="4484520"/>
            <a:ext cx="489744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тержень учитывается  как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линейная связь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в число расчётных элементов системы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не включа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2" name=""/>
              <p:cNvSpPr txBox="1"/>
              <p:nvPr/>
            </p:nvSpPr>
            <p:spPr>
              <a:xfrm>
                <a:off x="3348000" y="4971960"/>
                <a:ext cx="6303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"/>
              <p:cNvSpPr txBox="1"/>
              <p:nvPr/>
            </p:nvSpPr>
            <p:spPr>
              <a:xfrm>
                <a:off x="4524480" y="4984920"/>
                <a:ext cx="52380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4" name=""/>
              <p:cNvSpPr txBox="1"/>
              <p:nvPr/>
            </p:nvSpPr>
            <p:spPr>
              <a:xfrm>
                <a:off x="6230880" y="4986360"/>
                <a:ext cx="17924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3348000" y="5997600"/>
                <a:ext cx="6192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4533840" y="6005520"/>
                <a:ext cx="5209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j,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j,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6781680" y="6031080"/>
                <a:ext cx="77796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8" name=""/>
          <p:cNvSpPr/>
          <p:nvPr/>
        </p:nvSpPr>
        <p:spPr>
          <a:xfrm>
            <a:off x="3435480" y="5264280"/>
            <a:ext cx="4521240" cy="25236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3435480" y="5737320"/>
            <a:ext cx="4521240" cy="25236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707160" y="5037120"/>
            <a:ext cx="217440" cy="21600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561440" y="5051520"/>
            <a:ext cx="217440" cy="21564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6697800" y="5530680"/>
            <a:ext cx="217440" cy="21600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7551720" y="5526000"/>
            <a:ext cx="217440" cy="216000"/>
          </a:xfrm>
          <a:prstGeom prst="rect">
            <a:avLst/>
          </a:prstGeom>
          <a:solidFill>
            <a:srgbClr val="ff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7" dur="indefinite" restart="never" nodeType="tmRoot">
          <p:childTnLst>
            <p:seq>
              <p:cTn id="2458" dur="indefinite" nodeType="mainSeq">
                <p:childTnLst>
                  <p:par>
                    <p:cTn id="2459" fill="hold">
                      <p:stCondLst>
                        <p:cond delay="0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3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8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3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4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8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3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4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8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9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3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4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8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9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3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4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8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9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0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3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4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5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8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9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3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8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3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4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8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7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4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7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9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4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6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1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2" dur="10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6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7" dur="10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10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1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2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0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3" dur="10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10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5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8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0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3" dur="1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4" dur="1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5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8" dur="1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1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0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3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5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9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2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5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8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1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4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8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0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3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5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8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9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0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5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0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1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2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5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6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7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0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1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2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5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6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0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10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5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6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0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1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5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6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0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1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5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6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7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0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1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5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6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7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0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1" dur="10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10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5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6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0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1" dur="10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2" dur="10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5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6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0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1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7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9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2" dur="1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1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4" dur="1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7" dur="10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9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4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5" fill="hold">
                      <p:stCondLst>
                        <p:cond delay="indefinite"/>
                      </p:stCondLst>
                      <p:childTnLst>
                        <p:par>
                          <p:cTn id="2766" fill="hold">
                            <p:stCondLst>
                              <p:cond delay="0"/>
                            </p:stCondLst>
                            <p:childTnLst>
                              <p:par>
                                <p:cTn id="27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9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4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5" dur="1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6" dur="1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9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0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fill="hold">
                      <p:stCondLst>
                        <p:cond delay="indefinite"/>
                      </p:stCondLst>
                      <p:childTnLst>
                        <p:par>
                          <p:cTn id="2783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6" dur="80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7" dur="80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8" dur="80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3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4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5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8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9" dur="10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10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3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4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8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9" dur="10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0" dur="10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3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4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8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9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0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3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4" dur="10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5" dur="10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8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9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3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8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9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3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4" dur="1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5" dur="1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8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0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3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4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8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9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3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4" dur="1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5" dur="1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8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9" dur="10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10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3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4" dur="10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5" dur="10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8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9" dur="10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10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3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4" dur="1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1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0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2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5" dur="10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6" dur="10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7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0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1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2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5" dur="1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6" dur="1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7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2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3" dur="1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1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7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8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2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3" dur="1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4" dur="1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9" dur="10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0" dur="10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1" dur="1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4" dur="10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6" dur="1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9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0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1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4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5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6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9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1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4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5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6" dur="1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0" dur="1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3" dur="1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6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9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2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5" dur="1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9" dur="10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10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1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4" dur="10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5" dur="10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6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9" dur="10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0" dur="10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1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/>
          </p:nvPr>
        </p:nvSpPr>
        <p:spPr>
          <a:xfrm>
            <a:off x="179280" y="235080"/>
            <a:ext cx="8785440" cy="63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lnSpc>
                <a:spcPct val="70000"/>
              </a:lnSpc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Book Antiqua"/>
              </a:rPr>
              <a:t>К о н т р о л ь н ы е    в о п р о с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( в скобках даны номера слайдов, в которых можно найти ответы на вопр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перехода к слайду с ответом можно сделать щелчок мышью по номеру в скобках</a:t>
            </a:r>
            <a:r>
              <a:rPr b="1" i="1" lang="ru-RU" sz="1600" spc="-1" strike="noStrike" baseline="30000">
                <a:solidFill>
                  <a:srgbClr val="663300"/>
                </a:solidFill>
                <a:latin typeface="Book Antiqua"/>
              </a:rPr>
              <a:t>*)</a:t>
            </a: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возврата к контрольным вопросам сделать щелчок правой кнопкой мыш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и выбрать «Перейти  к  слайду  23»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 Теорема об определении реакций связей через возможную работу концевых усил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7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узловых нагрузок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( 13 )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 Матричная формулировка теоремы (п. 1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( 13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)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и её частные случаи (кинемат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7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температурные воздействия, определение реакций в единичных состояниях)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( 17 )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 Матричные выражения для вычисл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величин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t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c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( 17 )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75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матриц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( 17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–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18 )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 Какой смысл имеют компоненты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го столбца матриц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и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( 15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3" action="ppaction://hlinksldjump"/>
              </a:rPr>
              <a:t>–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Times New Roman"/>
                <a:hlinkClick r:id="rId14" action="ppaction://hlinksldjump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5" action="ppaction://hlinksldjump"/>
              </a:rPr>
              <a:t>19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6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7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го столбца матриц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7" action="ppaction://hlinksldjump"/>
              </a:rPr>
              <a:t>( 18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Times New Roman"/>
                <a:hlinkClick r:id="rId18" action="ppaction://hlinksldjump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9" action="ppaction://hlinksldjump"/>
              </a:rPr>
              <a:t>–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Times New Roman"/>
                <a:hlinkClick r:id="rId20" action="ppaction://hlinksldjump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1" action="ppaction://hlinksldjump"/>
              </a:rPr>
              <a:t>19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2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 Из каких частей (блоков) состоят матрицы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1600" spc="-1" strike="noStrike" u="sng" baseline="-25000">
                <a:solidFill>
                  <a:srgbClr val="009999"/>
                </a:solidFill>
                <a:uFillTx/>
                <a:latin typeface="Times New Roman"/>
                <a:hlinkClick r:id="rId23" action="ppaction://hlinksldjump"/>
              </a:rPr>
              <a:t>( 18 )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4" action="ppaction://hlinksldjump"/>
              </a:rPr>
              <a:t>( 15 )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5" action="ppaction://hlinksldjump"/>
              </a:rPr>
              <a:t>( 19 )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6" action="ppaction://hlinksldjump"/>
              </a:rPr>
              <a:t>( 15 )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7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7" action="ppaction://hlinksldjump"/>
              </a:rPr>
              <a:t>( 15 )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 u="sng" baseline="-25000">
                <a:solidFill>
                  <a:srgbClr val="009999"/>
                </a:solidFill>
                <a:uFillTx/>
                <a:latin typeface="Times New Roman"/>
                <a:hlinkClick r:id="rId28" action="ppaction://hlinksldjump"/>
              </a:rPr>
              <a:t>( 15 )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 Какую структуру (поблочно) и размеры (число строк и столбцов) имеют матрицы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1600" spc="-1" strike="noStrike" u="sng" baseline="-25000">
                <a:solidFill>
                  <a:srgbClr val="009999"/>
                </a:solidFill>
                <a:uFillTx/>
                <a:latin typeface="Times New Roman"/>
                <a:hlinkClick r:id="rId29" action="ppaction://hlinksldjump"/>
              </a:rPr>
              <a:t>( 18 )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0" action="ppaction://hlinksldjump"/>
              </a:rPr>
              <a:t>( 21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Times New Roman"/>
                <a:hlinkClick r:id="rId31" action="ppaction://hlinksldjump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2" action="ppaction://hlinksldjump"/>
              </a:rPr>
              <a:t>–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Times New Roman"/>
                <a:hlinkClick r:id="rId33" action="ppaction://hlinksldjump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4" action="ppaction://hlinksldjump"/>
              </a:rPr>
              <a:t>22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5" action="ppaction://hlinksldjump"/>
              </a:rPr>
              <a:t>( 13 )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6" action="ppaction://hlinksldjump"/>
              </a:rPr>
              <a:t>( 21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Times New Roman"/>
                <a:hlinkClick r:id="rId37" action="ppaction://hlinksldjump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8" action="ppaction://hlinksldjump"/>
              </a:rPr>
              <a:t>–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Times New Roman"/>
                <a:hlinkClick r:id="rId39" action="ppaction://hlinksldjump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0" action="ppaction://hlinksldjump"/>
              </a:rPr>
              <a:t>22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1" action="ppaction://hlinksldjump"/>
              </a:rPr>
              <a:t>( 21</a:t>
            </a:r>
            <a:r>
              <a:rPr b="0" i="1" lang="ru-RU" sz="800" spc="-1" strike="noStrike" u="sng">
                <a:solidFill>
                  <a:srgbClr val="009999"/>
                </a:solidFill>
                <a:uFillTx/>
                <a:latin typeface="Times New Roman"/>
                <a:hlinkClick r:id="rId42" action="ppaction://hlinksldjump"/>
              </a:rPr>
              <a:t> </a:t>
            </a:r>
            <a:r>
              <a:rPr b="0" i="1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3" action="ppaction://hlinksldjump"/>
              </a:rPr>
              <a:t>–</a:t>
            </a:r>
            <a:r>
              <a:rPr b="0" i="1" lang="ru-RU" sz="800" spc="-1" strike="noStrike" u="sng">
                <a:solidFill>
                  <a:srgbClr val="009999"/>
                </a:solidFill>
                <a:uFillTx/>
                <a:latin typeface="Times New Roman"/>
                <a:hlinkClick r:id="rId44" action="ppaction://hlinksldjump"/>
              </a:rPr>
              <a:t> </a:t>
            </a:r>
            <a:r>
              <a:rPr b="0" i="1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5" action="ppaction://hlinksldjump"/>
              </a:rPr>
              <a:t>22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6" action="ppaction://hlinksldjump"/>
              </a:rPr>
              <a:t>( 13 )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7" action="ppaction://hlinksldjump"/>
              </a:rPr>
              <a:t>( 21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Times New Roman"/>
                <a:hlinkClick r:id="rId48" action="ppaction://hlinksldjump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9" action="ppaction://hlinksldjump"/>
              </a:rPr>
              <a:t>–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Times New Roman"/>
                <a:hlinkClick r:id="rId50" action="ppaction://hlinksldjump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51" action="ppaction://hlinksldjump"/>
              </a:rPr>
              <a:t>22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52" action="ppaction://hlinksldjump"/>
              </a:rPr>
              <a:t>( 14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53" action="ppaction://hlinksldjump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14 )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7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к взаимно согласуются размеры и структура этих матриц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7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 Связь между матрицам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18 )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7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 Матрицы внешней и внутренней жёсткости ОСМП, их связь 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19 )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9. Какие характеристики элементов ОСМП используются при формировании матриц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7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нутренней жёсткост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см. лекцию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0. Матрицы внутренней жёсткостей элементов ОСМП разных типов, их структура, смыс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7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мпонентов и способы формирования 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21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–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22 ) , см. также лекцию 2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2. Общий и частный случаи исходных матриц (смещений концевых сечений и концев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силий) для элементов разных типов, условия применения частного случая 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21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–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22 )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*)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олько в режиме «Показ слайдов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395280" y="62625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/>
          </p:nvPr>
        </p:nvSpPr>
        <p:spPr>
          <a:xfrm>
            <a:off x="179280" y="235080"/>
            <a:ext cx="8785440" cy="63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70000"/>
              </a:lnSpc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Book Antiqua"/>
              </a:rPr>
              <a:t>К о н т р о л ь н ы е    в о п р о с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Book Antiqua"/>
              </a:rPr>
              <a:t>( в скобках даны номера слайдов, в которых можно найти ответы на вопр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Book Antiqua"/>
              </a:rPr>
              <a:t>для перехода к слайду с ответом можно сделать щелчок мышью по номеру в скобках</a:t>
            </a:r>
            <a:r>
              <a:rPr b="1" i="1" lang="en-US" sz="1600" spc="-1" strike="noStrike" baseline="30000">
                <a:solidFill>
                  <a:srgbClr val="663300"/>
                </a:solidFill>
                <a:latin typeface="Book Antiqua"/>
              </a:rPr>
              <a:t>*)</a:t>
            </a:r>
            <a:r>
              <a:rPr b="1" i="1" lang="en-US" sz="1600" spc="-1" strike="noStrike">
                <a:solidFill>
                  <a:srgbClr val="663300"/>
                </a:solidFill>
                <a:latin typeface="Book Antiqu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Book Antiqua"/>
              </a:rPr>
              <a:t>для возврата к контрольным вопросам сделать щелчок правой кнопкой мыш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Book Antiqua"/>
              </a:rPr>
              <a:t>и выбрать «Перейти  к  слайду  24»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5000"/>
              </a:lnSpc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. По каким матричным выражениям определяются основные неизвестные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? 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( 2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4. Матричные формулы для вычисления искомых силовых факторов: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) в концевых сечениях элементов ОСМП 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( 20 )</a:t>
            </a:r>
            <a:r>
              <a:rPr b="1" lang="en-US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5000"/>
              </a:lnSpc>
              <a:spcBef>
                <a:spcPts val="3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) в требуемом наборе (в том числе в произвольно назначенных сечениях) 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( 20 )</a:t>
            </a:r>
            <a:r>
              <a:rPr b="1" lang="en-US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. Сколько и каких (перечислить) исходных матриц необходимо состав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ля выполнения расчёта с результатами по вариантам (а) и (б) предыдущ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5000"/>
              </a:lnSpc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опроса?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( 2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6. Что получается в результате выполнения следующих матричных операц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)                 ;      б)                  ;      в)                 ;      г)               ;     д)           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е)                 ;     ж)                  ;    з)                            ;     и)                       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)                                               ;                 л)                                              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)                                                       ;         н)                                                            ;     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( 16</a:t>
            </a:r>
            <a:r>
              <a:rPr b="1" lang="en-US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–</a:t>
            </a:r>
            <a:r>
              <a:rPr b="1" lang="en-US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20 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)                                                          ;       п)                                                     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)                                                        ;         с)                                                          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)                                                  ;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30000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baseline="30000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*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Только в режиме «Показ слайд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46040" y="572148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9" name=""/>
              <p:cNvSpPr txBox="1"/>
              <p:nvPr/>
            </p:nvSpPr>
            <p:spPr>
              <a:xfrm>
                <a:off x="912960" y="3441600"/>
                <a:ext cx="9144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2400480" y="3436920"/>
                <a:ext cx="9856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3780000" y="3446640"/>
                <a:ext cx="80640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5157720" y="3465360"/>
                <a:ext cx="719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6400800" y="3502080"/>
                <a:ext cx="6732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968400" y="3792600"/>
                <a:ext cx="8240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2282760" y="3790800"/>
                <a:ext cx="9795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?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3" name=""/>
              <p:cNvSpPr txBox="1"/>
              <p:nvPr/>
            </p:nvSpPr>
            <p:spPr>
              <a:xfrm>
                <a:off x="3581280" y="3770280"/>
                <a:ext cx="14065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5" name=""/>
              <p:cNvSpPr txBox="1"/>
              <p:nvPr/>
            </p:nvSpPr>
            <p:spPr>
              <a:xfrm>
                <a:off x="5510160" y="3790800"/>
                <a:ext cx="12985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7" name=""/>
              <p:cNvSpPr txBox="1"/>
              <p:nvPr/>
            </p:nvSpPr>
            <p:spPr>
              <a:xfrm>
                <a:off x="4459320" y="4098960"/>
                <a:ext cx="24177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1006560" y="4108320"/>
                <a:ext cx="22701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952560" y="4419720"/>
                <a:ext cx="2720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4397400" y="4419720"/>
                <a:ext cx="30448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890640" y="4740120"/>
                <a:ext cx="29336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4487760" y="4740120"/>
                <a:ext cx="27576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966960" y="5060880"/>
                <a:ext cx="27604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4376880" y="5056200"/>
                <a:ext cx="30621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969840" y="5369040"/>
                <a:ext cx="24433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4424400" y="5367240"/>
                <a:ext cx="21240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6" name=""/>
          <p:cNvSpPr/>
          <p:nvPr/>
        </p:nvSpPr>
        <p:spPr>
          <a:xfrm>
            <a:off x="7561440" y="3500280"/>
            <a:ext cx="144360" cy="2160720"/>
          </a:xfrm>
          <a:custGeom>
            <a:avLst/>
            <a:gdLst>
              <a:gd name="textAreaLeft" fmla="*/ 0 w 144360"/>
              <a:gd name="textAreaRight" fmla="*/ 52200 w 14436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МАТРИЧНОЙ ФОРМЕ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4560" y="981000"/>
            <a:ext cx="68421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ределение реакций связей в ОСМП   к и н е м а т и ч е с к и м    м е т о д о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8000" y="1374840"/>
            <a:ext cx="5256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через работу концевых усилий и узловых нагру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780080" y="1557360"/>
                <a:ext cx="2163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370240" y="1676520"/>
            <a:ext cx="2448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казательство теор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85680" y="2529000"/>
            <a:ext cx="2337120" cy="1054080"/>
          </a:xfrm>
          <a:custGeom>
            <a:avLst/>
            <a:gdLst/>
            <a:ahLst/>
            <a:rect l="l" t="t" r="r" b="b"/>
            <a:pathLst>
              <a:path w="1472" h="664">
                <a:moveTo>
                  <a:pt x="0" y="136"/>
                </a:moveTo>
                <a:lnTo>
                  <a:pt x="91" y="0"/>
                </a:lnTo>
                <a:lnTo>
                  <a:pt x="1408" y="664"/>
                </a:lnTo>
                <a:lnTo>
                  <a:pt x="1472" y="51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2160" y="2244600"/>
            <a:ext cx="144360" cy="289080"/>
          </a:xfrm>
          <a:custGeom>
            <a:avLst/>
            <a:gdLst/>
            <a:ahLst/>
            <a:rect l="l" t="t" r="r" b="b"/>
            <a:pathLst>
              <a:path w="115" h="180">
                <a:moveTo>
                  <a:pt x="0" y="0"/>
                </a:moveTo>
                <a:lnTo>
                  <a:pt x="115" y="1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16240" y="3573360"/>
            <a:ext cx="144360" cy="24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873000" y="2751120"/>
            <a:ext cx="10800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335400" y="3184560"/>
            <a:ext cx="6192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9080" y="2084400"/>
            <a:ext cx="61920" cy="127080"/>
          </a:xfrm>
          <a:custGeom>
            <a:avLst/>
            <a:gdLst/>
            <a:ahLst/>
            <a:rect l="l" t="t" r="r" b="b"/>
            <a:pathLst>
              <a:path w="56" h="82">
                <a:moveTo>
                  <a:pt x="0" y="0"/>
                </a:moveTo>
                <a:lnTo>
                  <a:pt x="56" y="8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114640" y="2627280"/>
            <a:ext cx="7776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11280" y="3035160"/>
            <a:ext cx="36720" cy="1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49520" y="3071880"/>
            <a:ext cx="3636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3112920"/>
            <a:ext cx="17280" cy="19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38600" y="31971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9360" y="3313080"/>
            <a:ext cx="2556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06600" y="3035160"/>
            <a:ext cx="598680" cy="281160"/>
          </a:xfrm>
          <a:custGeom>
            <a:avLst/>
            <a:gdLst/>
            <a:ahLst/>
            <a:rect l="l" t="t" r="r" b="b"/>
            <a:pathLst>
              <a:path w="377" h="234">
                <a:moveTo>
                  <a:pt x="0" y="0"/>
                </a:moveTo>
                <a:cubicBezTo>
                  <a:pt x="16" y="4"/>
                  <a:pt x="66" y="12"/>
                  <a:pt x="97" y="22"/>
                </a:cubicBezTo>
                <a:cubicBezTo>
                  <a:pt x="128" y="32"/>
                  <a:pt x="158" y="41"/>
                  <a:pt x="189" y="58"/>
                </a:cubicBezTo>
                <a:cubicBezTo>
                  <a:pt x="220" y="75"/>
                  <a:pt x="250" y="97"/>
                  <a:pt x="281" y="126"/>
                </a:cubicBezTo>
                <a:cubicBezTo>
                  <a:pt x="312" y="155"/>
                  <a:pt x="357" y="212"/>
                  <a:pt x="377" y="23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2479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8840" y="2755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17800" y="3108240"/>
            <a:ext cx="287280" cy="28908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7046400">
            <a:off x="2602440" y="2100600"/>
            <a:ext cx="214200" cy="1133640"/>
          </a:xfrm>
          <a:custGeom>
            <a:avLst/>
            <a:gdLst>
              <a:gd name="textAreaLeft" fmla="*/ 136800 w 214200"/>
              <a:gd name="textAreaRight" fmla="*/ 214560 w 21420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570800">
            <a:off x="2280960" y="2197080"/>
            <a:ext cx="109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неузловые 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35000" y="25858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23840" y="2604960"/>
            <a:ext cx="270000" cy="233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35080" y="2521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125360" y="2081160"/>
            <a:ext cx="6480" cy="439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82840" y="2322360"/>
            <a:ext cx="5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,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58680" y="1782720"/>
            <a:ext cx="570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,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84240" y="2354400"/>
            <a:ext cx="288360" cy="29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63" y="20969"/>
                </a:moveTo>
                <a:arcTo wR="10800" hR="10800" stAng="6580890" swAng="14139589"/>
                <a:lnTo>
                  <a:pt x="10800" y="10800"/>
                </a:lnTo>
                <a:close/>
              </a:path>
              <a:path fill="none" w="21600" h="21600">
                <a:moveTo>
                  <a:pt x="7163" y="20969"/>
                </a:moveTo>
                <a:arcTo wR="10800" hR="10800" stAng="6580890" swAng="141395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560" y="2343240"/>
            <a:ext cx="5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 rot="16200000">
            <a:off x="1186200" y="2489760"/>
            <a:ext cx="147600" cy="1009800"/>
          </a:xfrm>
          <a:custGeom>
            <a:avLst/>
            <a:gdLst>
              <a:gd name="textAreaLeft" fmla="*/ 94320 w 147600"/>
              <a:gd name="textAreaRight" fmla="*/ 147960 w 14760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6640" y="3027240"/>
            <a:ext cx="895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Узлов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3043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75000" y="3857760"/>
            <a:ext cx="82440" cy="137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63560" y="345924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66800" y="34606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7440" y="3616200"/>
            <a:ext cx="1150920" cy="863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5200" y="38210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58880" y="389880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9400" y="3890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8600" y="4460760"/>
            <a:ext cx="1150920" cy="43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7720" y="4502160"/>
            <a:ext cx="12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мещени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63560" y="434196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11440" y="43178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1080" y="389880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59000" y="38577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66760" y="3506760"/>
            <a:ext cx="144720" cy="1224000"/>
          </a:xfrm>
          <a:custGeom>
            <a:avLst/>
            <a:gdLst>
              <a:gd name="textAreaLeft" fmla="*/ 0 w 144720"/>
              <a:gd name="textAreaRight" fmla="*/ 5220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8640" y="3586320"/>
            <a:ext cx="215640" cy="3636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600000">
            <a:off x="3614760" y="3495600"/>
            <a:ext cx="71280" cy="287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583440" y="3491640"/>
            <a:ext cx="49680" cy="28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3240" y="3529080"/>
            <a:ext cx="90360" cy="90360"/>
          </a:xfrm>
          <a:prstGeom prst="ellipse">
            <a:avLst/>
          </a:prstGeom>
          <a:solidFill>
            <a:srgbClr val="eb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57520" y="3592440"/>
            <a:ext cx="90720" cy="90720"/>
          </a:xfrm>
          <a:prstGeom prst="ellipse">
            <a:avLst/>
          </a:prstGeom>
          <a:solidFill>
            <a:srgbClr val="eb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9960" y="3637080"/>
            <a:ext cx="549360" cy="81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78240" y="3346560"/>
            <a:ext cx="179280" cy="179280"/>
          </a:xfrm>
          <a:prstGeom prst="rect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84640" y="32655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14760" y="3600360"/>
            <a:ext cx="9558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i="1" lang="en-US" sz="2200" spc="-1" strike="noStrike" baseline="-25000">
                <a:solidFill>
                  <a:srgbClr val="990033"/>
                </a:solidFill>
                <a:latin typeface="Times New Roman"/>
              </a:rPr>
              <a:t>i</a:t>
            </a:r>
            <a:r>
              <a:rPr b="1" lang="en-US" sz="22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n-US" sz="1200" spc="-1" strike="noStrike">
                <a:solidFill>
                  <a:srgbClr val="990033"/>
                </a:solidFill>
                <a:latin typeface="Symbol"/>
                <a:ea typeface="Symbol"/>
              </a:rPr>
              <a:t></a:t>
            </a:r>
            <a:r>
              <a:rPr b="1" lang="en-US" sz="2200" spc="-1" strike="noStrike">
                <a:solidFill>
                  <a:srgbClr val="990033"/>
                </a:solidFill>
                <a:latin typeface="Symbol"/>
                <a:ea typeface="Symbol"/>
              </a:rPr>
              <a:t></a:t>
            </a:r>
            <a:r>
              <a:rPr b="1" lang="en-US" sz="1200" spc="-1" strike="noStrike">
                <a:solidFill>
                  <a:srgbClr val="990033"/>
                </a:solidFill>
                <a:latin typeface="Symbol"/>
                <a:ea typeface="Symbol"/>
              </a:rPr>
              <a:t></a:t>
            </a:r>
            <a:r>
              <a:rPr b="1" lang="en-US" sz="2200" spc="-1" strike="noStrike">
                <a:solidFill>
                  <a:srgbClr val="990033"/>
                </a:solidFill>
                <a:latin typeface="Symbol"/>
                <a:ea typeface="Symbol"/>
              </a:rPr>
              <a:t>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30720" y="2862360"/>
            <a:ext cx="2336760" cy="1054080"/>
          </a:xfrm>
          <a:custGeom>
            <a:avLst/>
            <a:gdLst/>
            <a:ahLst/>
            <a:rect l="l" t="t" r="r" b="b"/>
            <a:pathLst>
              <a:path w="1472" h="664">
                <a:moveTo>
                  <a:pt x="0" y="136"/>
                </a:moveTo>
                <a:lnTo>
                  <a:pt x="91" y="0"/>
                </a:lnTo>
                <a:lnTo>
                  <a:pt x="1408" y="664"/>
                </a:lnTo>
                <a:lnTo>
                  <a:pt x="1472" y="516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37200" y="2577960"/>
            <a:ext cx="144360" cy="289080"/>
          </a:xfrm>
          <a:custGeom>
            <a:avLst/>
            <a:gdLst/>
            <a:ahLst/>
            <a:rect l="l" t="t" r="r" b="b"/>
            <a:pathLst>
              <a:path w="115" h="180">
                <a:moveTo>
                  <a:pt x="0" y="0"/>
                </a:moveTo>
                <a:lnTo>
                  <a:pt x="115" y="18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61280" y="3906720"/>
            <a:ext cx="144360" cy="24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018040" y="3084480"/>
            <a:ext cx="108000" cy="14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480440" y="3508200"/>
            <a:ext cx="54000" cy="144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64120" y="2417760"/>
            <a:ext cx="61920" cy="127080"/>
          </a:xfrm>
          <a:custGeom>
            <a:avLst/>
            <a:gdLst/>
            <a:ahLst/>
            <a:rect l="l" t="t" r="r" b="b"/>
            <a:pathLst>
              <a:path w="56" h="82">
                <a:moveTo>
                  <a:pt x="0" y="0"/>
                </a:moveTo>
                <a:lnTo>
                  <a:pt x="56" y="82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04040" y="3359160"/>
            <a:ext cx="287280" cy="28908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41960" y="24703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30800" y="2489040"/>
            <a:ext cx="270000" cy="233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83080" y="2440080"/>
            <a:ext cx="2349720" cy="1873080"/>
          </a:xfrm>
          <a:custGeom>
            <a:avLst/>
            <a:gdLst/>
            <a:ahLst/>
            <a:rect l="l" t="t" r="r" b="b"/>
            <a:pathLst>
              <a:path w="1480" h="1180">
                <a:moveTo>
                  <a:pt x="0" y="0"/>
                </a:moveTo>
                <a:cubicBezTo>
                  <a:pt x="19" y="28"/>
                  <a:pt x="73" y="116"/>
                  <a:pt x="116" y="168"/>
                </a:cubicBezTo>
                <a:cubicBezTo>
                  <a:pt x="159" y="220"/>
                  <a:pt x="197" y="265"/>
                  <a:pt x="260" y="312"/>
                </a:cubicBezTo>
                <a:cubicBezTo>
                  <a:pt x="323" y="359"/>
                  <a:pt x="391" y="403"/>
                  <a:pt x="496" y="452"/>
                </a:cubicBezTo>
                <a:cubicBezTo>
                  <a:pt x="601" y="501"/>
                  <a:pt x="778" y="557"/>
                  <a:pt x="888" y="608"/>
                </a:cubicBezTo>
                <a:cubicBezTo>
                  <a:pt x="998" y="659"/>
                  <a:pt x="1080" y="703"/>
                  <a:pt x="1156" y="760"/>
                </a:cubicBezTo>
                <a:cubicBezTo>
                  <a:pt x="1232" y="817"/>
                  <a:pt x="1290" y="878"/>
                  <a:pt x="1344" y="948"/>
                </a:cubicBezTo>
                <a:cubicBezTo>
                  <a:pt x="1398" y="1018"/>
                  <a:pt x="1452" y="1132"/>
                  <a:pt x="1480" y="11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728120" y="4177800"/>
            <a:ext cx="203040" cy="14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927560" y="4086360"/>
            <a:ext cx="142920" cy="96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32480" y="3278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686360" y="4316400"/>
            <a:ext cx="4284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658280" y="4632480"/>
            <a:ext cx="25200" cy="164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137200" y="2432160"/>
            <a:ext cx="23328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376600" y="2222640"/>
            <a:ext cx="42840" cy="21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71600" y="2549520"/>
            <a:ext cx="142920" cy="71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422680" y="2063880"/>
            <a:ext cx="3636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10200" y="367992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56280" y="36338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24960" y="4363920"/>
            <a:ext cx="215640" cy="36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600000">
            <a:off x="8101080" y="4273560"/>
            <a:ext cx="71280" cy="287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8069760" y="4269240"/>
            <a:ext cx="49680" cy="28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43840" y="4370400"/>
            <a:ext cx="90360" cy="90360"/>
          </a:xfrm>
          <a:prstGeom prst="ellipse">
            <a:avLst/>
          </a:prstGeom>
          <a:solidFill>
            <a:srgbClr val="eb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16680" y="4464000"/>
            <a:ext cx="179640" cy="179280"/>
          </a:xfrm>
          <a:prstGeom prst="rect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24880" y="43783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78560" y="3916440"/>
            <a:ext cx="333360" cy="406440"/>
          </a:xfrm>
          <a:prstGeom prst="line">
            <a:avLst/>
          </a:prstGeom>
          <a:ln w="19080">
            <a:solidFill>
              <a:srgbClr val="9900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9040" y="4255920"/>
            <a:ext cx="647640" cy="108000"/>
          </a:xfrm>
          <a:prstGeom prst="line">
            <a:avLst/>
          </a:prstGeom>
          <a:ln w="1260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40720" y="4311720"/>
            <a:ext cx="90360" cy="90360"/>
          </a:xfrm>
          <a:prstGeom prst="ellipse">
            <a:avLst/>
          </a:prstGeom>
          <a:solidFill>
            <a:srgbClr val="eb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294680" y="3913200"/>
            <a:ext cx="71280" cy="360360"/>
          </a:xfrm>
          <a:prstGeom prst="line">
            <a:avLst/>
          </a:prstGeom>
          <a:ln w="1260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40680" y="4205160"/>
            <a:ext cx="42840" cy="42840"/>
          </a:xfrm>
          <a:prstGeom prst="ellips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7032800">
            <a:off x="7202880" y="4173480"/>
            <a:ext cx="145800" cy="14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11" y="579"/>
                </a:moveTo>
                <a:arcTo wR="10800" hR="10800" stAng="-6531021" swAng="7491784"/>
                <a:lnTo>
                  <a:pt x="10800" y="10800"/>
                </a:lnTo>
                <a:close/>
              </a:path>
              <a:path fill="none" w="21600" h="21600">
                <a:moveTo>
                  <a:pt x="7311" y="579"/>
                </a:moveTo>
                <a:arcTo wR="10800" hR="10800" stAng="-6531021" swAng="7491784"/>
              </a:path>
            </a:pathLst>
          </a:cu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6680000">
            <a:off x="7434720" y="4183560"/>
            <a:ext cx="108000" cy="395280"/>
          </a:xfrm>
          <a:custGeom>
            <a:avLst/>
            <a:gdLst>
              <a:gd name="textAreaLeft" fmla="*/ 69120 w 108000"/>
              <a:gd name="textAreaRight" fmla="*/ 108360 w 108000"/>
              <a:gd name="textAreaTop" fmla="*/ 10080 h 395280"/>
              <a:gd name="textAreaBottom" fmla="*/ 38520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37200" y="434664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Times New Roman"/>
              </a:rPr>
              <a:t>Z</a:t>
            </a:r>
            <a:r>
              <a:rPr b="1" i="1" lang="en-US" sz="1800" spc="-1" strike="noStrike" baseline="-25000">
                <a:solidFill>
                  <a:srgbClr val="990033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3979800"/>
            <a:ext cx="18716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равновес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остояние сис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29240" y="3573360"/>
            <a:ext cx="15843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иртуаль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возмож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мещ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68360" y="4435560"/>
            <a:ext cx="2880000" cy="510120"/>
          </a:xfrm>
          <a:prstGeom prst="rect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t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nt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68360" y="4984920"/>
            <a:ext cx="2880000" cy="510120"/>
          </a:xfrm>
          <a:prstGeom prst="rect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t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5313240" y="5017680"/>
            <a:ext cx="174600" cy="358560"/>
          </a:xfrm>
          <a:prstGeom prst="downArrow">
            <a:avLst>
              <a:gd name="adj1" fmla="val 50000"/>
              <a:gd name="adj2" fmla="val 51340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7860800">
            <a:off x="5311800" y="4746240"/>
            <a:ext cx="174600" cy="358920"/>
          </a:xfrm>
          <a:prstGeom prst="downArrow">
            <a:avLst>
              <a:gd name="adj1" fmla="val 50000"/>
              <a:gd name="adj2" fmla="val 51392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51640" y="4973760"/>
            <a:ext cx="2879640" cy="510120"/>
          </a:xfrm>
          <a:prstGeom prst="rect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nt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68360" y="5526000"/>
            <a:ext cx="2590920" cy="510120"/>
          </a:xfrm>
          <a:prstGeom prst="rect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133800" y="5530680"/>
                <a:ext cx="17272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5148360" y="5521320"/>
            <a:ext cx="3671640" cy="51012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4906440" y="5621760"/>
            <a:ext cx="215640" cy="252360"/>
          </a:xfrm>
          <a:prstGeom prst="downArrow">
            <a:avLst>
              <a:gd name="adj1" fmla="val 57361"/>
              <a:gd name="adj2" fmla="val 45636"/>
            </a:avLst>
          </a:prstGeom>
          <a:solidFill>
            <a:srgbClr val="caffa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953000">
            <a:off x="5532120" y="5370480"/>
            <a:ext cx="216000" cy="252360"/>
          </a:xfrm>
          <a:prstGeom prst="downArrow">
            <a:avLst>
              <a:gd name="adj1" fmla="val 57361"/>
              <a:gd name="adj2" fmla="val 45559"/>
            </a:avLst>
          </a:prstGeom>
          <a:solidFill>
            <a:srgbClr val="caffa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986440" y="5537160"/>
                <a:ext cx="27194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95280" y="1989000"/>
            <a:ext cx="1008000" cy="1532160"/>
          </a:xfrm>
          <a:custGeom>
            <a:avLst/>
            <a:gdLst/>
            <a:ahLst/>
            <a:rect l="l" t="t" r="r" b="b"/>
            <a:pathLst>
              <a:path w="907" h="816">
                <a:moveTo>
                  <a:pt x="0" y="0"/>
                </a:moveTo>
                <a:lnTo>
                  <a:pt x="0" y="816"/>
                </a:lnTo>
                <a:lnTo>
                  <a:pt x="907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51080" y="3316320"/>
            <a:ext cx="2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4680" y="1657440"/>
            <a:ext cx="2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МАТРИЧНОЙ ФОРМЕ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4560" y="981000"/>
            <a:ext cx="68421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ределение реакций связей в ОСМП   к и н е м а т и ч е с к и м    м е т о д о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1374840"/>
            <a:ext cx="5256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через работу концевых усилий и узловых нагру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780080" y="1557360"/>
                <a:ext cx="2163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2370240" y="1676520"/>
            <a:ext cx="2448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казательство теор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85680" y="2529000"/>
            <a:ext cx="2337120" cy="1054080"/>
          </a:xfrm>
          <a:custGeom>
            <a:avLst/>
            <a:gdLst/>
            <a:ahLst/>
            <a:rect l="l" t="t" r="r" b="b"/>
            <a:pathLst>
              <a:path w="1472" h="664">
                <a:moveTo>
                  <a:pt x="0" y="136"/>
                </a:moveTo>
                <a:lnTo>
                  <a:pt x="91" y="0"/>
                </a:lnTo>
                <a:lnTo>
                  <a:pt x="1408" y="664"/>
                </a:lnTo>
                <a:lnTo>
                  <a:pt x="1472" y="51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92160" y="2244600"/>
            <a:ext cx="144360" cy="289080"/>
          </a:xfrm>
          <a:custGeom>
            <a:avLst/>
            <a:gdLst/>
            <a:ahLst/>
            <a:rect l="l" t="t" r="r" b="b"/>
            <a:pathLst>
              <a:path w="115" h="180">
                <a:moveTo>
                  <a:pt x="0" y="0"/>
                </a:moveTo>
                <a:lnTo>
                  <a:pt x="115" y="1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16240" y="3573360"/>
            <a:ext cx="144360" cy="24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73000" y="2751120"/>
            <a:ext cx="10800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335400" y="3184560"/>
            <a:ext cx="6192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19080" y="2084400"/>
            <a:ext cx="61920" cy="127080"/>
          </a:xfrm>
          <a:custGeom>
            <a:avLst/>
            <a:gdLst/>
            <a:ahLst/>
            <a:rect l="l" t="t" r="r" b="b"/>
            <a:pathLst>
              <a:path w="56" h="82">
                <a:moveTo>
                  <a:pt x="0" y="0"/>
                </a:moveTo>
                <a:lnTo>
                  <a:pt x="56" y="8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114640" y="2627280"/>
            <a:ext cx="7776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11280" y="3035160"/>
            <a:ext cx="36720" cy="1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49520" y="3071880"/>
            <a:ext cx="3636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3112920"/>
            <a:ext cx="17280" cy="19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38600" y="31971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979360" y="3313080"/>
            <a:ext cx="2556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06600" y="3035160"/>
            <a:ext cx="598680" cy="281160"/>
          </a:xfrm>
          <a:custGeom>
            <a:avLst/>
            <a:gdLst/>
            <a:ahLst/>
            <a:rect l="l" t="t" r="r" b="b"/>
            <a:pathLst>
              <a:path w="377" h="234">
                <a:moveTo>
                  <a:pt x="0" y="0"/>
                </a:moveTo>
                <a:cubicBezTo>
                  <a:pt x="16" y="4"/>
                  <a:pt x="66" y="12"/>
                  <a:pt x="97" y="22"/>
                </a:cubicBezTo>
                <a:cubicBezTo>
                  <a:pt x="128" y="32"/>
                  <a:pt x="158" y="41"/>
                  <a:pt x="189" y="58"/>
                </a:cubicBezTo>
                <a:cubicBezTo>
                  <a:pt x="220" y="75"/>
                  <a:pt x="250" y="97"/>
                  <a:pt x="281" y="126"/>
                </a:cubicBezTo>
                <a:cubicBezTo>
                  <a:pt x="312" y="155"/>
                  <a:pt x="357" y="212"/>
                  <a:pt x="377" y="23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2479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98840" y="2755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17800" y="3108240"/>
            <a:ext cx="287280" cy="28908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7046400">
            <a:off x="2602440" y="2100600"/>
            <a:ext cx="214200" cy="1133640"/>
          </a:xfrm>
          <a:custGeom>
            <a:avLst/>
            <a:gdLst>
              <a:gd name="textAreaLeft" fmla="*/ 136800 w 214200"/>
              <a:gd name="textAreaRight" fmla="*/ 214560 w 21420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570800">
            <a:off x="2280960" y="2197080"/>
            <a:ext cx="109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неузловые 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35000" y="25858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23840" y="2604960"/>
            <a:ext cx="270000" cy="233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35080" y="2521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125360" y="2081160"/>
            <a:ext cx="6480" cy="439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82840" y="2322360"/>
            <a:ext cx="5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,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58680" y="1782720"/>
            <a:ext cx="570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,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84240" y="2354400"/>
            <a:ext cx="288360" cy="29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63" y="20969"/>
                </a:moveTo>
                <a:arcTo wR="10800" hR="10800" stAng="6580890" swAng="14139589"/>
                <a:lnTo>
                  <a:pt x="10800" y="10800"/>
                </a:lnTo>
                <a:close/>
              </a:path>
              <a:path fill="none" w="21600" h="21600">
                <a:moveTo>
                  <a:pt x="7163" y="20969"/>
                </a:moveTo>
                <a:arcTo wR="10800" hR="10800" stAng="6580890" swAng="141395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1560" y="2343240"/>
            <a:ext cx="5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 rot="16200000">
            <a:off x="1186200" y="2489760"/>
            <a:ext cx="147600" cy="1009800"/>
          </a:xfrm>
          <a:custGeom>
            <a:avLst/>
            <a:gdLst>
              <a:gd name="textAreaLeft" fmla="*/ 94320 w 147600"/>
              <a:gd name="textAreaRight" fmla="*/ 147960 w 14760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6640" y="3027240"/>
            <a:ext cx="895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Узлов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0920" y="3043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75000" y="3857760"/>
            <a:ext cx="82440" cy="137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63560" y="345924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66800" y="34606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440" y="3616200"/>
            <a:ext cx="1150920" cy="863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5200" y="38210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58880" y="389880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79400" y="3890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8600" y="4460760"/>
            <a:ext cx="1150920" cy="43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7720" y="4502160"/>
            <a:ext cx="12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мещени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63560" y="434196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11440" y="43178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51080" y="389880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59000" y="38577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66760" y="3506760"/>
            <a:ext cx="144720" cy="1224000"/>
          </a:xfrm>
          <a:custGeom>
            <a:avLst/>
            <a:gdLst>
              <a:gd name="textAreaLeft" fmla="*/ 0 w 144720"/>
              <a:gd name="textAreaRight" fmla="*/ 5220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38640" y="3586320"/>
            <a:ext cx="215640" cy="3636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600000">
            <a:off x="3614760" y="3495600"/>
            <a:ext cx="71280" cy="287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583440" y="3491640"/>
            <a:ext cx="49680" cy="28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3240" y="3529080"/>
            <a:ext cx="90360" cy="90360"/>
          </a:xfrm>
          <a:prstGeom prst="ellipse">
            <a:avLst/>
          </a:prstGeom>
          <a:solidFill>
            <a:srgbClr val="eb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57520" y="3592440"/>
            <a:ext cx="90720" cy="90720"/>
          </a:xfrm>
          <a:prstGeom prst="ellipse">
            <a:avLst/>
          </a:prstGeom>
          <a:solidFill>
            <a:srgbClr val="eb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39960" y="3637080"/>
            <a:ext cx="549360" cy="81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78240" y="3346560"/>
            <a:ext cx="179280" cy="179280"/>
          </a:xfrm>
          <a:prstGeom prst="rect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84640" y="32655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19440" y="3598920"/>
            <a:ext cx="9558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i="1" lang="en-US" sz="2200" spc="-1" strike="noStrike" baseline="-25000">
                <a:solidFill>
                  <a:srgbClr val="990033"/>
                </a:solidFill>
                <a:latin typeface="Times New Roman"/>
              </a:rPr>
              <a:t>i</a:t>
            </a:r>
            <a:r>
              <a:rPr b="1" lang="en-US" sz="22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n-US" sz="1200" spc="-1" strike="noStrike">
                <a:solidFill>
                  <a:srgbClr val="990033"/>
                </a:solidFill>
                <a:latin typeface="Symbol"/>
                <a:ea typeface="Symbol"/>
              </a:rPr>
              <a:t></a:t>
            </a:r>
            <a:r>
              <a:rPr b="1" lang="en-US" sz="2200" spc="-1" strike="noStrike">
                <a:solidFill>
                  <a:srgbClr val="990033"/>
                </a:solidFill>
                <a:latin typeface="Symbol"/>
                <a:ea typeface="Symbol"/>
              </a:rPr>
              <a:t></a:t>
            </a:r>
            <a:r>
              <a:rPr b="1" lang="en-US" sz="1200" spc="-1" strike="noStrike">
                <a:solidFill>
                  <a:srgbClr val="990033"/>
                </a:solidFill>
                <a:latin typeface="Symbol"/>
                <a:ea typeface="Symbol"/>
              </a:rPr>
              <a:t></a:t>
            </a:r>
            <a:r>
              <a:rPr b="1" lang="en-US" sz="2200" spc="-1" strike="noStrike">
                <a:solidFill>
                  <a:srgbClr val="990033"/>
                </a:solidFill>
                <a:latin typeface="Symbol"/>
                <a:ea typeface="Symbol"/>
              </a:rPr>
              <a:t>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30720" y="2862360"/>
            <a:ext cx="2336760" cy="1054080"/>
          </a:xfrm>
          <a:custGeom>
            <a:avLst/>
            <a:gdLst/>
            <a:ahLst/>
            <a:rect l="l" t="t" r="r" b="b"/>
            <a:pathLst>
              <a:path w="1472" h="664">
                <a:moveTo>
                  <a:pt x="0" y="136"/>
                </a:moveTo>
                <a:lnTo>
                  <a:pt x="91" y="0"/>
                </a:lnTo>
                <a:lnTo>
                  <a:pt x="1408" y="664"/>
                </a:lnTo>
                <a:lnTo>
                  <a:pt x="1472" y="516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37200" y="2577960"/>
            <a:ext cx="144360" cy="289080"/>
          </a:xfrm>
          <a:custGeom>
            <a:avLst/>
            <a:gdLst/>
            <a:ahLst/>
            <a:rect l="l" t="t" r="r" b="b"/>
            <a:pathLst>
              <a:path w="115" h="180">
                <a:moveTo>
                  <a:pt x="0" y="0"/>
                </a:moveTo>
                <a:lnTo>
                  <a:pt x="115" y="18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61280" y="3906720"/>
            <a:ext cx="144360" cy="24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018040" y="3084480"/>
            <a:ext cx="108000" cy="14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480440" y="3508200"/>
            <a:ext cx="54000" cy="144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64120" y="2417760"/>
            <a:ext cx="61920" cy="127080"/>
          </a:xfrm>
          <a:custGeom>
            <a:avLst/>
            <a:gdLst/>
            <a:ahLst/>
            <a:rect l="l" t="t" r="r" b="b"/>
            <a:pathLst>
              <a:path w="56" h="82">
                <a:moveTo>
                  <a:pt x="0" y="0"/>
                </a:moveTo>
                <a:lnTo>
                  <a:pt x="56" y="82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04040" y="3359160"/>
            <a:ext cx="287280" cy="28908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41960" y="24703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230800" y="2489040"/>
            <a:ext cx="270000" cy="233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83080" y="2440080"/>
            <a:ext cx="2349720" cy="1873080"/>
          </a:xfrm>
          <a:custGeom>
            <a:avLst/>
            <a:gdLst/>
            <a:ahLst/>
            <a:rect l="l" t="t" r="r" b="b"/>
            <a:pathLst>
              <a:path w="1480" h="1180">
                <a:moveTo>
                  <a:pt x="0" y="0"/>
                </a:moveTo>
                <a:cubicBezTo>
                  <a:pt x="19" y="28"/>
                  <a:pt x="73" y="116"/>
                  <a:pt x="116" y="168"/>
                </a:cubicBezTo>
                <a:cubicBezTo>
                  <a:pt x="159" y="220"/>
                  <a:pt x="197" y="265"/>
                  <a:pt x="260" y="312"/>
                </a:cubicBezTo>
                <a:cubicBezTo>
                  <a:pt x="323" y="359"/>
                  <a:pt x="391" y="403"/>
                  <a:pt x="496" y="452"/>
                </a:cubicBezTo>
                <a:cubicBezTo>
                  <a:pt x="601" y="501"/>
                  <a:pt x="778" y="557"/>
                  <a:pt x="888" y="608"/>
                </a:cubicBezTo>
                <a:cubicBezTo>
                  <a:pt x="998" y="659"/>
                  <a:pt x="1080" y="703"/>
                  <a:pt x="1156" y="760"/>
                </a:cubicBezTo>
                <a:cubicBezTo>
                  <a:pt x="1232" y="817"/>
                  <a:pt x="1290" y="878"/>
                  <a:pt x="1344" y="948"/>
                </a:cubicBezTo>
                <a:cubicBezTo>
                  <a:pt x="1398" y="1018"/>
                  <a:pt x="1452" y="1132"/>
                  <a:pt x="1480" y="11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728120" y="4177800"/>
            <a:ext cx="203040" cy="14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927560" y="4086360"/>
            <a:ext cx="142920" cy="96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32480" y="3278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686360" y="4316400"/>
            <a:ext cx="4284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658280" y="4632480"/>
            <a:ext cx="25200" cy="164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137200" y="2432160"/>
            <a:ext cx="23328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376600" y="2222640"/>
            <a:ext cx="42840" cy="21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971600" y="2549520"/>
            <a:ext cx="142920" cy="71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422680" y="2063880"/>
            <a:ext cx="3636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0200" y="367992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56280" y="36338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824960" y="4363920"/>
            <a:ext cx="215640" cy="36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600000">
            <a:off x="8101080" y="4273560"/>
            <a:ext cx="71280" cy="287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8069760" y="4269240"/>
            <a:ext cx="49680" cy="28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43840" y="4370400"/>
            <a:ext cx="90360" cy="90360"/>
          </a:xfrm>
          <a:prstGeom prst="ellipse">
            <a:avLst/>
          </a:prstGeom>
          <a:solidFill>
            <a:srgbClr val="eb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16680" y="4464000"/>
            <a:ext cx="179640" cy="179280"/>
          </a:xfrm>
          <a:prstGeom prst="rect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724880" y="43783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78560" y="3916440"/>
            <a:ext cx="333360" cy="406440"/>
          </a:xfrm>
          <a:prstGeom prst="line">
            <a:avLst/>
          </a:prstGeom>
          <a:ln w="19080">
            <a:solidFill>
              <a:srgbClr val="9900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69040" y="4255920"/>
            <a:ext cx="647640" cy="108000"/>
          </a:xfrm>
          <a:prstGeom prst="line">
            <a:avLst/>
          </a:prstGeom>
          <a:ln w="1260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40720" y="4311720"/>
            <a:ext cx="90360" cy="90360"/>
          </a:xfrm>
          <a:prstGeom prst="ellipse">
            <a:avLst/>
          </a:prstGeom>
          <a:solidFill>
            <a:srgbClr val="eb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7294680" y="3913200"/>
            <a:ext cx="71280" cy="360360"/>
          </a:xfrm>
          <a:prstGeom prst="line">
            <a:avLst/>
          </a:prstGeom>
          <a:ln w="1260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40680" y="4205160"/>
            <a:ext cx="42840" cy="42840"/>
          </a:xfrm>
          <a:prstGeom prst="ellips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7032800">
            <a:off x="7202880" y="4173480"/>
            <a:ext cx="145800" cy="14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11" y="579"/>
                </a:moveTo>
                <a:arcTo wR="10800" hR="10800" stAng="-6531021" swAng="7491784"/>
                <a:lnTo>
                  <a:pt x="10800" y="10800"/>
                </a:lnTo>
                <a:close/>
              </a:path>
              <a:path fill="none" w="21600" h="21600">
                <a:moveTo>
                  <a:pt x="7311" y="579"/>
                </a:moveTo>
                <a:arcTo wR="10800" hR="10800" stAng="-6531021" swAng="7491784"/>
              </a:path>
            </a:pathLst>
          </a:cu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6680000">
            <a:off x="7434720" y="4183560"/>
            <a:ext cx="108000" cy="395280"/>
          </a:xfrm>
          <a:custGeom>
            <a:avLst/>
            <a:gdLst>
              <a:gd name="textAreaLeft" fmla="*/ 69120 w 108000"/>
              <a:gd name="textAreaRight" fmla="*/ 108360 w 108000"/>
              <a:gd name="textAreaTop" fmla="*/ 10080 h 395280"/>
              <a:gd name="textAreaBottom" fmla="*/ 38520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0" y="434664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Times New Roman"/>
              </a:rPr>
              <a:t>Z</a:t>
            </a:r>
            <a:r>
              <a:rPr b="1" i="1" lang="en-US" sz="1800" spc="-1" strike="noStrike" baseline="-25000">
                <a:solidFill>
                  <a:srgbClr val="990033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29240" y="3573360"/>
            <a:ext cx="15843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иртуаль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возмож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мещ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68360" y="4435560"/>
            <a:ext cx="2880000" cy="510120"/>
          </a:xfrm>
          <a:prstGeom prst="rect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t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nt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68360" y="4984920"/>
            <a:ext cx="2880000" cy="510120"/>
          </a:xfrm>
          <a:prstGeom prst="rect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ext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6200000">
            <a:off x="5313240" y="5017680"/>
            <a:ext cx="174600" cy="358560"/>
          </a:xfrm>
          <a:prstGeom prst="downArrow">
            <a:avLst>
              <a:gd name="adj1" fmla="val 50000"/>
              <a:gd name="adj2" fmla="val 51340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7860800">
            <a:off x="5311800" y="4746240"/>
            <a:ext cx="174600" cy="358920"/>
          </a:xfrm>
          <a:prstGeom prst="downArrow">
            <a:avLst>
              <a:gd name="adj1" fmla="val 50000"/>
              <a:gd name="adj2" fmla="val 51392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4973760"/>
            <a:ext cx="2879640" cy="510120"/>
          </a:xfrm>
          <a:prstGeom prst="rect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nt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68360" y="5526000"/>
            <a:ext cx="2590920" cy="510120"/>
          </a:xfrm>
          <a:prstGeom prst="rect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133800" y="5530680"/>
                <a:ext cx="17272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5148360" y="5521320"/>
            <a:ext cx="3671640" cy="51012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4906440" y="5621760"/>
            <a:ext cx="215640" cy="252360"/>
          </a:xfrm>
          <a:prstGeom prst="downArrow">
            <a:avLst>
              <a:gd name="adj1" fmla="val 57361"/>
              <a:gd name="adj2" fmla="val 45636"/>
            </a:avLst>
          </a:prstGeom>
          <a:solidFill>
            <a:srgbClr val="caffa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953000">
            <a:off x="5532120" y="5370480"/>
            <a:ext cx="216000" cy="252360"/>
          </a:xfrm>
          <a:prstGeom prst="downArrow">
            <a:avLst>
              <a:gd name="adj1" fmla="val 57361"/>
              <a:gd name="adj2" fmla="val 45559"/>
            </a:avLst>
          </a:prstGeom>
          <a:solidFill>
            <a:srgbClr val="caffa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986440" y="5537160"/>
                <a:ext cx="27194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3081240" y="4425840"/>
            <a:ext cx="3672000" cy="51012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917880" y="4441680"/>
                <a:ext cx="272088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556000" y="3979800"/>
            <a:ext cx="18716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равновес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остояние сис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5280" y="1989000"/>
            <a:ext cx="1008000" cy="1532160"/>
          </a:xfrm>
          <a:custGeom>
            <a:avLst/>
            <a:gdLst/>
            <a:ahLst/>
            <a:rect l="l" t="t" r="r" b="b"/>
            <a:pathLst>
              <a:path w="907" h="816">
                <a:moveTo>
                  <a:pt x="0" y="0"/>
                </a:moveTo>
                <a:lnTo>
                  <a:pt x="0" y="816"/>
                </a:lnTo>
                <a:lnTo>
                  <a:pt x="907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51080" y="3316320"/>
            <a:ext cx="2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4680" y="1657440"/>
            <a:ext cx="2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МАТРИЧНОЙ ФОРМЕ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14560" y="981000"/>
            <a:ext cx="68421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ределение реакций связей в ОСМП   к и н е м а т и ч е с к и м    м е т о д о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08000" y="1374840"/>
            <a:ext cx="5256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через работу концевых усилий и узловых нагру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780080" y="1557360"/>
                <a:ext cx="2163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2370240" y="1676520"/>
            <a:ext cx="2448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казательство теор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85680" y="2529000"/>
            <a:ext cx="2337120" cy="1054080"/>
          </a:xfrm>
          <a:custGeom>
            <a:avLst/>
            <a:gdLst/>
            <a:ahLst/>
            <a:rect l="l" t="t" r="r" b="b"/>
            <a:pathLst>
              <a:path w="1472" h="664">
                <a:moveTo>
                  <a:pt x="0" y="136"/>
                </a:moveTo>
                <a:lnTo>
                  <a:pt x="91" y="0"/>
                </a:lnTo>
                <a:lnTo>
                  <a:pt x="1408" y="664"/>
                </a:lnTo>
                <a:lnTo>
                  <a:pt x="1472" y="51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92160" y="2244600"/>
            <a:ext cx="144360" cy="289080"/>
          </a:xfrm>
          <a:custGeom>
            <a:avLst/>
            <a:gdLst/>
            <a:ahLst/>
            <a:rect l="l" t="t" r="r" b="b"/>
            <a:pathLst>
              <a:path w="115" h="180">
                <a:moveTo>
                  <a:pt x="0" y="0"/>
                </a:moveTo>
                <a:lnTo>
                  <a:pt x="115" y="1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16240" y="3573360"/>
            <a:ext cx="144360" cy="24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873000" y="2751120"/>
            <a:ext cx="10800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3335400" y="3184560"/>
            <a:ext cx="6192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19080" y="2084400"/>
            <a:ext cx="61920" cy="127080"/>
          </a:xfrm>
          <a:custGeom>
            <a:avLst/>
            <a:gdLst/>
            <a:ahLst/>
            <a:rect l="l" t="t" r="r" b="b"/>
            <a:pathLst>
              <a:path w="56" h="82">
                <a:moveTo>
                  <a:pt x="0" y="0"/>
                </a:moveTo>
                <a:lnTo>
                  <a:pt x="56" y="8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114640" y="2627280"/>
            <a:ext cx="7776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11280" y="3035160"/>
            <a:ext cx="36720" cy="1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49520" y="3071880"/>
            <a:ext cx="3636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00360" y="3112920"/>
            <a:ext cx="17280" cy="19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38600" y="31971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979360" y="3313080"/>
            <a:ext cx="2556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06600" y="3035160"/>
            <a:ext cx="598680" cy="281160"/>
          </a:xfrm>
          <a:custGeom>
            <a:avLst/>
            <a:gdLst/>
            <a:ahLst/>
            <a:rect l="l" t="t" r="r" b="b"/>
            <a:pathLst>
              <a:path w="377" h="234">
                <a:moveTo>
                  <a:pt x="0" y="0"/>
                </a:moveTo>
                <a:cubicBezTo>
                  <a:pt x="16" y="4"/>
                  <a:pt x="66" y="12"/>
                  <a:pt x="97" y="22"/>
                </a:cubicBezTo>
                <a:cubicBezTo>
                  <a:pt x="128" y="32"/>
                  <a:pt x="158" y="41"/>
                  <a:pt x="189" y="58"/>
                </a:cubicBezTo>
                <a:cubicBezTo>
                  <a:pt x="220" y="75"/>
                  <a:pt x="250" y="97"/>
                  <a:pt x="281" y="126"/>
                </a:cubicBezTo>
                <a:cubicBezTo>
                  <a:pt x="312" y="155"/>
                  <a:pt x="357" y="212"/>
                  <a:pt x="377" y="23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33720" y="2479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98840" y="2755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017800" y="3108240"/>
            <a:ext cx="287280" cy="28908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7046400">
            <a:off x="2602440" y="2100600"/>
            <a:ext cx="214200" cy="1133640"/>
          </a:xfrm>
          <a:custGeom>
            <a:avLst/>
            <a:gdLst>
              <a:gd name="textAreaLeft" fmla="*/ 136800 w 214200"/>
              <a:gd name="textAreaRight" fmla="*/ 214560 w 21420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570800">
            <a:off x="2280960" y="2197080"/>
            <a:ext cx="109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неузловые 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35000" y="25858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23840" y="2604960"/>
            <a:ext cx="270000" cy="233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35080" y="2521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125360" y="2081160"/>
            <a:ext cx="6480" cy="439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82840" y="2322360"/>
            <a:ext cx="5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,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58680" y="1782720"/>
            <a:ext cx="570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,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84240" y="2354400"/>
            <a:ext cx="288360" cy="29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63" y="20969"/>
                </a:moveTo>
                <a:arcTo wR="10800" hR="10800" stAng="6580890" swAng="14139589"/>
                <a:lnTo>
                  <a:pt x="10800" y="10800"/>
                </a:lnTo>
                <a:close/>
              </a:path>
              <a:path fill="none" w="21600" h="21600">
                <a:moveTo>
                  <a:pt x="7163" y="20969"/>
                </a:moveTo>
                <a:arcTo wR="10800" hR="10800" stAng="6580890" swAng="141395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560" y="2343240"/>
            <a:ext cx="5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 rot="16200000">
            <a:off x="1186200" y="2489760"/>
            <a:ext cx="147600" cy="1009800"/>
          </a:xfrm>
          <a:custGeom>
            <a:avLst/>
            <a:gdLst>
              <a:gd name="textAreaLeft" fmla="*/ 94320 w 147600"/>
              <a:gd name="textAreaRight" fmla="*/ 147960 w 14760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36640" y="3027240"/>
            <a:ext cx="895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Узлов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050920" y="3043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75000" y="3857760"/>
            <a:ext cx="82440" cy="137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63560" y="345924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66800" y="34606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7440" y="3616200"/>
            <a:ext cx="1150920" cy="863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35200" y="38210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658880" y="389880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79400" y="3890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98600" y="4460760"/>
            <a:ext cx="1150920" cy="43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7720" y="4502160"/>
            <a:ext cx="12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мещени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63560" y="434196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11440" y="43178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51080" y="389880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59000" y="38577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066760" y="3506760"/>
            <a:ext cx="144720" cy="1224000"/>
          </a:xfrm>
          <a:custGeom>
            <a:avLst/>
            <a:gdLst>
              <a:gd name="textAreaLeft" fmla="*/ 0 w 144720"/>
              <a:gd name="textAreaRight" fmla="*/ 5220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338640" y="3586320"/>
            <a:ext cx="215640" cy="3636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600000">
            <a:off x="3614760" y="3495600"/>
            <a:ext cx="71280" cy="287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583440" y="3491640"/>
            <a:ext cx="49680" cy="28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43240" y="3529080"/>
            <a:ext cx="90360" cy="90360"/>
          </a:xfrm>
          <a:prstGeom prst="ellipse">
            <a:avLst/>
          </a:prstGeom>
          <a:solidFill>
            <a:srgbClr val="eb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57520" y="3592440"/>
            <a:ext cx="90720" cy="90720"/>
          </a:xfrm>
          <a:prstGeom prst="ellipse">
            <a:avLst/>
          </a:prstGeom>
          <a:solidFill>
            <a:srgbClr val="eb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39960" y="3637080"/>
            <a:ext cx="549360" cy="81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78240" y="3346560"/>
            <a:ext cx="179280" cy="179280"/>
          </a:xfrm>
          <a:prstGeom prst="rect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84640" y="32655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621240" y="3595680"/>
            <a:ext cx="955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i="1" lang="en-US" sz="2200" spc="-1" strike="noStrike" baseline="-25000">
                <a:solidFill>
                  <a:srgbClr val="990033"/>
                </a:solidFill>
                <a:latin typeface="Times New Roman"/>
              </a:rPr>
              <a:t>i</a:t>
            </a:r>
            <a:r>
              <a:rPr b="1" lang="en-US" sz="22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n-US" sz="1200" spc="-1" strike="noStrike">
                <a:solidFill>
                  <a:srgbClr val="990033"/>
                </a:solidFill>
                <a:latin typeface="Symbol"/>
                <a:ea typeface="Symbol"/>
              </a:rPr>
              <a:t></a:t>
            </a:r>
            <a:r>
              <a:rPr b="1" lang="en-US" sz="2200" spc="-1" strike="noStrike">
                <a:solidFill>
                  <a:srgbClr val="990033"/>
                </a:solidFill>
                <a:latin typeface="Symbol"/>
                <a:ea typeface="Symbol"/>
              </a:rPr>
              <a:t></a:t>
            </a:r>
            <a:r>
              <a:rPr b="1" lang="en-US" sz="1200" spc="-1" strike="noStrike">
                <a:solidFill>
                  <a:srgbClr val="990033"/>
                </a:solidFill>
                <a:latin typeface="Symbol"/>
                <a:ea typeface="Symbol"/>
              </a:rPr>
              <a:t></a:t>
            </a:r>
            <a:r>
              <a:rPr b="1" lang="en-US" sz="2200" spc="-1" strike="noStrike">
                <a:solidFill>
                  <a:srgbClr val="990033"/>
                </a:solidFill>
                <a:latin typeface="Symbol"/>
                <a:ea typeface="Symbol"/>
              </a:rPr>
              <a:t>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30720" y="2862360"/>
            <a:ext cx="2336760" cy="1054080"/>
          </a:xfrm>
          <a:custGeom>
            <a:avLst/>
            <a:gdLst/>
            <a:ahLst/>
            <a:rect l="l" t="t" r="r" b="b"/>
            <a:pathLst>
              <a:path w="1472" h="664">
                <a:moveTo>
                  <a:pt x="0" y="136"/>
                </a:moveTo>
                <a:lnTo>
                  <a:pt x="91" y="0"/>
                </a:lnTo>
                <a:lnTo>
                  <a:pt x="1408" y="664"/>
                </a:lnTo>
                <a:lnTo>
                  <a:pt x="1472" y="516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37200" y="2577960"/>
            <a:ext cx="144360" cy="289080"/>
          </a:xfrm>
          <a:custGeom>
            <a:avLst/>
            <a:gdLst/>
            <a:ahLst/>
            <a:rect l="l" t="t" r="r" b="b"/>
            <a:pathLst>
              <a:path w="115" h="180">
                <a:moveTo>
                  <a:pt x="0" y="0"/>
                </a:moveTo>
                <a:lnTo>
                  <a:pt x="115" y="18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61280" y="3906720"/>
            <a:ext cx="144360" cy="24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5018040" y="3084480"/>
            <a:ext cx="108000" cy="14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7480440" y="3508200"/>
            <a:ext cx="54000" cy="144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64120" y="2417760"/>
            <a:ext cx="61920" cy="127080"/>
          </a:xfrm>
          <a:custGeom>
            <a:avLst/>
            <a:gdLst/>
            <a:ahLst/>
            <a:rect l="l" t="t" r="r" b="b"/>
            <a:pathLst>
              <a:path w="56" h="82">
                <a:moveTo>
                  <a:pt x="0" y="0"/>
                </a:moveTo>
                <a:lnTo>
                  <a:pt x="56" y="82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404040" y="3359160"/>
            <a:ext cx="287280" cy="28908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41960" y="24703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30800" y="2489040"/>
            <a:ext cx="270000" cy="233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83080" y="2440080"/>
            <a:ext cx="2349720" cy="1873080"/>
          </a:xfrm>
          <a:custGeom>
            <a:avLst/>
            <a:gdLst/>
            <a:ahLst/>
            <a:rect l="l" t="t" r="r" b="b"/>
            <a:pathLst>
              <a:path w="1480" h="1180">
                <a:moveTo>
                  <a:pt x="0" y="0"/>
                </a:moveTo>
                <a:cubicBezTo>
                  <a:pt x="19" y="28"/>
                  <a:pt x="73" y="116"/>
                  <a:pt x="116" y="168"/>
                </a:cubicBezTo>
                <a:cubicBezTo>
                  <a:pt x="159" y="220"/>
                  <a:pt x="197" y="265"/>
                  <a:pt x="260" y="312"/>
                </a:cubicBezTo>
                <a:cubicBezTo>
                  <a:pt x="323" y="359"/>
                  <a:pt x="391" y="403"/>
                  <a:pt x="496" y="452"/>
                </a:cubicBezTo>
                <a:cubicBezTo>
                  <a:pt x="601" y="501"/>
                  <a:pt x="778" y="557"/>
                  <a:pt x="888" y="608"/>
                </a:cubicBezTo>
                <a:cubicBezTo>
                  <a:pt x="998" y="659"/>
                  <a:pt x="1080" y="703"/>
                  <a:pt x="1156" y="760"/>
                </a:cubicBezTo>
                <a:cubicBezTo>
                  <a:pt x="1232" y="817"/>
                  <a:pt x="1290" y="878"/>
                  <a:pt x="1344" y="948"/>
                </a:cubicBezTo>
                <a:cubicBezTo>
                  <a:pt x="1398" y="1018"/>
                  <a:pt x="1452" y="1132"/>
                  <a:pt x="1480" y="11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728120" y="4177800"/>
            <a:ext cx="203040" cy="14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927560" y="4086360"/>
            <a:ext cx="142920" cy="96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32480" y="3278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7686360" y="4316400"/>
            <a:ext cx="4284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658280" y="4632480"/>
            <a:ext cx="25200" cy="164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137200" y="2432160"/>
            <a:ext cx="23328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376600" y="2222640"/>
            <a:ext cx="42840" cy="21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971600" y="2549520"/>
            <a:ext cx="142920" cy="71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422680" y="2063880"/>
            <a:ext cx="3636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10200" y="367992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056280" y="36338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824960" y="4363920"/>
            <a:ext cx="215640" cy="3672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600000">
            <a:off x="8101080" y="4273560"/>
            <a:ext cx="71280" cy="287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8069760" y="4269240"/>
            <a:ext cx="49680" cy="282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43840" y="4370400"/>
            <a:ext cx="90360" cy="90360"/>
          </a:xfrm>
          <a:prstGeom prst="ellipse">
            <a:avLst/>
          </a:prstGeom>
          <a:solidFill>
            <a:srgbClr val="eb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816680" y="4464000"/>
            <a:ext cx="179640" cy="179280"/>
          </a:xfrm>
          <a:prstGeom prst="rect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724880" y="43783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378560" y="3916440"/>
            <a:ext cx="333360" cy="406440"/>
          </a:xfrm>
          <a:prstGeom prst="line">
            <a:avLst/>
          </a:prstGeom>
          <a:ln w="19080">
            <a:solidFill>
              <a:srgbClr val="9900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69040" y="4255920"/>
            <a:ext cx="647640" cy="108000"/>
          </a:xfrm>
          <a:prstGeom prst="line">
            <a:avLst/>
          </a:prstGeom>
          <a:ln w="1260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740720" y="4311720"/>
            <a:ext cx="90360" cy="90360"/>
          </a:xfrm>
          <a:prstGeom prst="ellipse">
            <a:avLst/>
          </a:prstGeom>
          <a:solidFill>
            <a:srgbClr val="eb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7294680" y="3913200"/>
            <a:ext cx="71280" cy="360360"/>
          </a:xfrm>
          <a:prstGeom prst="line">
            <a:avLst/>
          </a:prstGeom>
          <a:ln w="1260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40680" y="4205160"/>
            <a:ext cx="42840" cy="42840"/>
          </a:xfrm>
          <a:prstGeom prst="ellips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17032800">
            <a:off x="7202880" y="4173480"/>
            <a:ext cx="145800" cy="14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311" y="579"/>
                </a:moveTo>
                <a:arcTo wR="10800" hR="10800" stAng="-6531021" swAng="7491784"/>
                <a:lnTo>
                  <a:pt x="10800" y="10800"/>
                </a:lnTo>
                <a:close/>
              </a:path>
              <a:path fill="none" w="21600" h="21600">
                <a:moveTo>
                  <a:pt x="7311" y="579"/>
                </a:moveTo>
                <a:arcTo wR="10800" hR="10800" stAng="-6531021" swAng="7491784"/>
              </a:path>
            </a:pathLst>
          </a:cu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16680000">
            <a:off x="7434720" y="4183560"/>
            <a:ext cx="108000" cy="395280"/>
          </a:xfrm>
          <a:custGeom>
            <a:avLst/>
            <a:gdLst>
              <a:gd name="textAreaLeft" fmla="*/ 69120 w 108000"/>
              <a:gd name="textAreaRight" fmla="*/ 108360 w 108000"/>
              <a:gd name="textAreaTop" fmla="*/ 10080 h 395280"/>
              <a:gd name="textAreaBottom" fmla="*/ 38520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7200" y="434664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Times New Roman"/>
              </a:rPr>
              <a:t>Z</a:t>
            </a:r>
            <a:r>
              <a:rPr b="1" i="1" lang="en-US" sz="1800" spc="-1" strike="noStrike" baseline="-25000">
                <a:solidFill>
                  <a:srgbClr val="990033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629240" y="3573360"/>
            <a:ext cx="15843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иртуаль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возмож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мещ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81240" y="4425840"/>
            <a:ext cx="3672000" cy="51012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917880" y="4454640"/>
                <a:ext cx="27068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5276880" y="2852640"/>
            <a:ext cx="0" cy="21600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88120" y="2747880"/>
            <a:ext cx="0" cy="32076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824000" y="2874960"/>
            <a:ext cx="46836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815000" y="2425680"/>
            <a:ext cx="9712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878360" y="2427120"/>
            <a:ext cx="0" cy="432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278320" y="3021120"/>
            <a:ext cx="108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5362200" y="2433600"/>
            <a:ext cx="227160" cy="36360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431400">
            <a:off x="5578200" y="2420640"/>
            <a:ext cx="145800" cy="326880"/>
          </a:xfrm>
          <a:custGeom>
            <a:avLst/>
            <a:gdLst/>
            <a:ahLst/>
            <a:rect l="l" t="t" r="r" b="b"/>
            <a:pathLst>
              <a:path w="108" h="188">
                <a:moveTo>
                  <a:pt x="108" y="0"/>
                </a:moveTo>
                <a:cubicBezTo>
                  <a:pt x="106" y="11"/>
                  <a:pt x="104" y="45"/>
                  <a:pt x="96" y="68"/>
                </a:cubicBezTo>
                <a:cubicBezTo>
                  <a:pt x="88" y="91"/>
                  <a:pt x="76" y="120"/>
                  <a:pt x="60" y="140"/>
                </a:cubicBezTo>
                <a:cubicBezTo>
                  <a:pt x="44" y="160"/>
                  <a:pt x="12" y="178"/>
                  <a:pt x="0" y="18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68680" y="2398680"/>
            <a:ext cx="534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2000" spc="-1" strike="noStrike" baseline="-25000">
                <a:solidFill>
                  <a:srgbClr val="333399"/>
                </a:solidFill>
                <a:latin typeface="Times New Roman"/>
              </a:rPr>
              <a:t>t,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70320" y="2933640"/>
            <a:ext cx="48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333399"/>
                </a:solidFill>
                <a:latin typeface="Times New Roman"/>
              </a:rPr>
              <a:t>t,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659560" y="2421000"/>
            <a:ext cx="56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2000" spc="-1" strike="noStrike" baseline="-25000">
                <a:solidFill>
                  <a:srgbClr val="333399"/>
                </a:solidFill>
                <a:latin typeface="Times New Roman"/>
              </a:rPr>
              <a:t>t</a:t>
            </a:r>
            <a:r>
              <a:rPr b="1" i="1" lang="de-DE" sz="2000" spc="-1" strike="noStrike" baseline="-25000">
                <a:solidFill>
                  <a:srgbClr val="333399"/>
                </a:solidFill>
                <a:latin typeface="Times New Roman"/>
              </a:rPr>
              <a:t>,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2771640" y="4797360"/>
                <a:ext cx="14400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356000" y="4819680"/>
                <a:ext cx="3310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4124160" y="5489640"/>
                <a:ext cx="20973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2556000" y="3979800"/>
            <a:ext cx="18716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равновес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остояние сис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56000" y="2276640"/>
            <a:ext cx="1440000" cy="1152360"/>
          </a:xfrm>
          <a:custGeom>
            <a:avLst/>
            <a:gdLst/>
            <a:ahLst/>
            <a:rect l="l" t="t" r="r" b="b"/>
            <a:pathLst>
              <a:path w="907" h="816">
                <a:moveTo>
                  <a:pt x="0" y="0"/>
                </a:moveTo>
                <a:lnTo>
                  <a:pt x="0" y="816"/>
                </a:lnTo>
                <a:lnTo>
                  <a:pt x="907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34080" y="3235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227480" y="19400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95280" y="1989000"/>
            <a:ext cx="1008000" cy="1532160"/>
          </a:xfrm>
          <a:custGeom>
            <a:avLst/>
            <a:gdLst/>
            <a:ahLst/>
            <a:rect l="l" t="t" r="r" b="b"/>
            <a:pathLst>
              <a:path w="907" h="816">
                <a:moveTo>
                  <a:pt x="0" y="0"/>
                </a:moveTo>
                <a:lnTo>
                  <a:pt x="0" y="816"/>
                </a:lnTo>
                <a:lnTo>
                  <a:pt x="907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351080" y="3316320"/>
            <a:ext cx="2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4680" y="1657440"/>
            <a:ext cx="2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МАТРИЧНОЙ ФОРМЕ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14560" y="981000"/>
            <a:ext cx="68421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ределение реакций связей в ОСМП   к и н е м а т и ч е с к и м    м е т о д о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08000" y="1374840"/>
            <a:ext cx="5256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через работу концевых усилий и узловых нагру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780080" y="1557360"/>
                <a:ext cx="2163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2370240" y="1676520"/>
            <a:ext cx="2448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казательство теор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30400" y="2529000"/>
            <a:ext cx="2090520" cy="1054080"/>
          </a:xfrm>
          <a:custGeom>
            <a:avLst/>
            <a:gdLst/>
            <a:ahLst/>
            <a:rect l="l" t="t" r="r" b="b"/>
            <a:pathLst>
              <a:path w="1317" h="664">
                <a:moveTo>
                  <a:pt x="0" y="0"/>
                </a:moveTo>
                <a:lnTo>
                  <a:pt x="1317" y="66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114640" y="2627280"/>
            <a:ext cx="7776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411280" y="3035160"/>
            <a:ext cx="36720" cy="1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49520" y="3071880"/>
            <a:ext cx="3636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00360" y="3112920"/>
            <a:ext cx="17280" cy="19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838600" y="31971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2979360" y="3313080"/>
            <a:ext cx="2556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406600" y="3035160"/>
            <a:ext cx="598680" cy="281160"/>
          </a:xfrm>
          <a:custGeom>
            <a:avLst/>
            <a:gdLst/>
            <a:ahLst/>
            <a:rect l="l" t="t" r="r" b="b"/>
            <a:pathLst>
              <a:path w="377" h="234">
                <a:moveTo>
                  <a:pt x="0" y="0"/>
                </a:moveTo>
                <a:cubicBezTo>
                  <a:pt x="16" y="4"/>
                  <a:pt x="66" y="12"/>
                  <a:pt x="97" y="22"/>
                </a:cubicBezTo>
                <a:cubicBezTo>
                  <a:pt x="128" y="32"/>
                  <a:pt x="158" y="41"/>
                  <a:pt x="189" y="58"/>
                </a:cubicBezTo>
                <a:cubicBezTo>
                  <a:pt x="220" y="75"/>
                  <a:pt x="250" y="97"/>
                  <a:pt x="281" y="126"/>
                </a:cubicBezTo>
                <a:cubicBezTo>
                  <a:pt x="312" y="155"/>
                  <a:pt x="357" y="212"/>
                  <a:pt x="377" y="23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2479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98840" y="2755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17800" y="3108240"/>
            <a:ext cx="287280" cy="28908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7046400">
            <a:off x="2602440" y="2100600"/>
            <a:ext cx="214200" cy="1133640"/>
          </a:xfrm>
          <a:custGeom>
            <a:avLst/>
            <a:gdLst>
              <a:gd name="textAreaLeft" fmla="*/ 136800 w 214200"/>
              <a:gd name="textAreaRight" fmla="*/ 214560 w 21420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1570800">
            <a:off x="2280960" y="2197080"/>
            <a:ext cx="109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неузловые 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050920" y="3043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63560" y="345924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66800" y="34606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87440" y="3616200"/>
            <a:ext cx="1150920" cy="863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35200" y="38210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58880" y="389880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679400" y="3890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98600" y="4460760"/>
            <a:ext cx="1150920" cy="43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77720" y="4502160"/>
            <a:ext cx="12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мещени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63560" y="434196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711440" y="43178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51080" y="389880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59000" y="38577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066760" y="3506760"/>
            <a:ext cx="144720" cy="1224000"/>
          </a:xfrm>
          <a:custGeom>
            <a:avLst/>
            <a:gdLst>
              <a:gd name="textAreaLeft" fmla="*/ 0 w 144720"/>
              <a:gd name="textAreaRight" fmla="*/ 5220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19720" y="2881440"/>
            <a:ext cx="2046240" cy="1035000"/>
          </a:xfrm>
          <a:custGeom>
            <a:avLst/>
            <a:gdLst/>
            <a:ahLst/>
            <a:rect l="l" t="t" r="r" b="b"/>
            <a:pathLst>
              <a:path w="1289" h="652">
                <a:moveTo>
                  <a:pt x="0" y="0"/>
                </a:moveTo>
                <a:lnTo>
                  <a:pt x="1289" y="652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404040" y="3359160"/>
            <a:ext cx="287280" cy="28908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83080" y="2440080"/>
            <a:ext cx="2349720" cy="1873080"/>
          </a:xfrm>
          <a:custGeom>
            <a:avLst/>
            <a:gdLst/>
            <a:ahLst/>
            <a:rect l="l" t="t" r="r" b="b"/>
            <a:pathLst>
              <a:path w="1480" h="1180">
                <a:moveTo>
                  <a:pt x="0" y="0"/>
                </a:moveTo>
                <a:cubicBezTo>
                  <a:pt x="19" y="28"/>
                  <a:pt x="73" y="116"/>
                  <a:pt x="116" y="168"/>
                </a:cubicBezTo>
                <a:cubicBezTo>
                  <a:pt x="159" y="220"/>
                  <a:pt x="197" y="265"/>
                  <a:pt x="260" y="312"/>
                </a:cubicBezTo>
                <a:cubicBezTo>
                  <a:pt x="323" y="359"/>
                  <a:pt x="391" y="403"/>
                  <a:pt x="496" y="452"/>
                </a:cubicBezTo>
                <a:cubicBezTo>
                  <a:pt x="601" y="501"/>
                  <a:pt x="778" y="557"/>
                  <a:pt x="888" y="608"/>
                </a:cubicBezTo>
                <a:cubicBezTo>
                  <a:pt x="998" y="659"/>
                  <a:pt x="1080" y="703"/>
                  <a:pt x="1156" y="760"/>
                </a:cubicBezTo>
                <a:cubicBezTo>
                  <a:pt x="1232" y="817"/>
                  <a:pt x="1290" y="878"/>
                  <a:pt x="1344" y="948"/>
                </a:cubicBezTo>
                <a:cubicBezTo>
                  <a:pt x="1398" y="1018"/>
                  <a:pt x="1452" y="1132"/>
                  <a:pt x="1480" y="11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432480" y="3278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10200" y="367992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56280" y="36338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29240" y="3573360"/>
            <a:ext cx="15843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иртуаль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возмож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мещ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81240" y="4425840"/>
            <a:ext cx="3672000" cy="51012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3930480" y="4454640"/>
                <a:ext cx="26845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2771640" y="4797360"/>
                <a:ext cx="14400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356000" y="4819680"/>
                <a:ext cx="3310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4124160" y="5489640"/>
                <a:ext cx="20973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5303880" y="285588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5318280" y="2463840"/>
            <a:ext cx="54000" cy="39528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334120" y="2513160"/>
            <a:ext cx="166680" cy="339480"/>
          </a:xfrm>
          <a:custGeom>
            <a:avLst/>
            <a:gdLst/>
            <a:ahLst/>
            <a:rect l="l" t="t" r="r" b="b"/>
            <a:pathLst>
              <a:path w="105" h="214">
                <a:moveTo>
                  <a:pt x="0" y="214"/>
                </a:moveTo>
                <a:lnTo>
                  <a:pt x="105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5187600" y="2801880"/>
            <a:ext cx="119160" cy="61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5194440" y="2449440"/>
            <a:ext cx="179280" cy="3603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78400" y="2443320"/>
            <a:ext cx="125640" cy="6192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064120" y="224640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013360" y="271764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557680" y="222876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502240" y="2455920"/>
            <a:ext cx="125280" cy="54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5468400" y="2488680"/>
            <a:ext cx="37332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384880" y="2475000"/>
            <a:ext cx="216000" cy="45072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584680" y="2657520"/>
            <a:ext cx="209520" cy="22212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672160" y="261468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396200" y="3935520"/>
            <a:ext cx="93492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62720" y="3903840"/>
            <a:ext cx="367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396200" y="3943440"/>
            <a:ext cx="323640" cy="37764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396200" y="3930480"/>
            <a:ext cx="420480" cy="227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7295760" y="3936960"/>
            <a:ext cx="73080" cy="154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96120" y="4087800"/>
            <a:ext cx="420840" cy="2271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7730640" y="4159080"/>
            <a:ext cx="71640" cy="14472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704000" y="405612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24880" y="384660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62840" y="394956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947000" y="448308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7730640" y="4316040"/>
            <a:ext cx="37332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7721280" y="4302000"/>
            <a:ext cx="198360" cy="39528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905600" y="4492800"/>
            <a:ext cx="179640" cy="17928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383080" y="2201400"/>
            <a:ext cx="119160" cy="23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278920" y="424008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375160" y="18939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96760" y="24843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 flipV="1">
            <a:off x="654120" y="2276640"/>
            <a:ext cx="449280" cy="23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087560" y="2244240"/>
            <a:ext cx="14580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7520000">
            <a:off x="816840" y="2276280"/>
            <a:ext cx="433080" cy="4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4" y="8426"/>
                </a:moveTo>
                <a:arcTo wR="10800" hR="10800" stAng="-10038120" swAng="10274913"/>
                <a:lnTo>
                  <a:pt x="10800" y="10800"/>
                </a:lnTo>
                <a:close/>
              </a:path>
              <a:path fill="none" w="21600" h="21600">
                <a:moveTo>
                  <a:pt x="264" y="8426"/>
                </a:moveTo>
                <a:arcTo wR="10800" hR="10800" stAng="-10038120" swAng="1027491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77720" y="2556000"/>
                <a:ext cx="509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455760" y="1976400"/>
                <a:ext cx="474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104840" y="1951200"/>
                <a:ext cx="438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3006720" y="320184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3257640" y="3284640"/>
            <a:ext cx="162000" cy="30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38560" y="3591000"/>
            <a:ext cx="466560" cy="247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9813000">
            <a:off x="3054240" y="3344760"/>
            <a:ext cx="394920" cy="43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" y="11449"/>
                </a:moveTo>
                <a:arcTo wR="10800" hR="10800" stAng="10593398" swAng="11243394"/>
                <a:lnTo>
                  <a:pt x="10800" y="10800"/>
                </a:lnTo>
                <a:close/>
              </a:path>
              <a:path fill="none" w="21600" h="21600">
                <a:moveTo>
                  <a:pt x="19" y="11449"/>
                </a:moveTo>
                <a:arcTo wR="10800" hR="10800" stAng="10593398" swAng="1124339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689200" y="3625920"/>
                <a:ext cx="509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3294000" y="2984400"/>
                <a:ext cx="438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645000" y="3716280"/>
                <a:ext cx="474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flipH="1">
            <a:off x="1099800" y="2457360"/>
            <a:ext cx="7308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3177720" y="3506760"/>
            <a:ext cx="7308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96960" y="4960800"/>
            <a:ext cx="2016000" cy="505080"/>
          </a:xfrm>
          <a:prstGeom prst="rect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819000" y="5011560"/>
                <a:ext cx="18068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,</m:t>
                        </m:r>
                        <m:r>
                          <m:t xml:space="preserve">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 rot="2418000">
            <a:off x="2409840" y="4341600"/>
            <a:ext cx="200160" cy="774720"/>
          </a:xfrm>
          <a:prstGeom prst="downArrow">
            <a:avLst>
              <a:gd name="adj1" fmla="val 45019"/>
              <a:gd name="adj2" fmla="val 76120"/>
            </a:avLst>
          </a:prstGeom>
          <a:solidFill>
            <a:srgbClr val="caffa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379440" y="5353200"/>
                <a:ext cx="22273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Σ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Σi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74760" y="5354640"/>
                <a:ext cx="2254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,</m:t>
                            </m:r>
                            <m:r>
                              <m:t xml:space="preserve"> </m:t>
                            </m:r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,</m:t>
                            </m:r>
                            <m:r>
                              <m:t xml:space="preserve"> </m:t>
                            </m:r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1432080" y="5965920"/>
                <a:ext cx="16272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,</m:t>
                            </m:r>
                            <m:r>
                              <m:t xml:space="preserve"> </m:t>
                            </m:r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2768760" y="5842080"/>
            <a:ext cx="2412720" cy="330120"/>
          </a:xfrm>
          <a:custGeom>
            <a:avLst/>
            <a:gdLst/>
            <a:ahLst/>
            <a:rect l="l" t="t" r="r" b="b"/>
            <a:pathLst>
              <a:path w="1520" h="208">
                <a:moveTo>
                  <a:pt x="0" y="208"/>
                </a:moveTo>
                <a:cubicBezTo>
                  <a:pt x="37" y="197"/>
                  <a:pt x="137" y="159"/>
                  <a:pt x="220" y="140"/>
                </a:cubicBezTo>
                <a:cubicBezTo>
                  <a:pt x="303" y="121"/>
                  <a:pt x="402" y="101"/>
                  <a:pt x="500" y="92"/>
                </a:cubicBezTo>
                <a:cubicBezTo>
                  <a:pt x="598" y="83"/>
                  <a:pt x="691" y="88"/>
                  <a:pt x="808" y="84"/>
                </a:cubicBezTo>
                <a:cubicBezTo>
                  <a:pt x="925" y="80"/>
                  <a:pt x="1081" y="82"/>
                  <a:pt x="1200" y="68"/>
                </a:cubicBezTo>
                <a:cubicBezTo>
                  <a:pt x="1319" y="54"/>
                  <a:pt x="1453" y="14"/>
                  <a:pt x="1520" y="0"/>
                </a:cubicBezTo>
              </a:path>
            </a:pathLst>
          </a:custGeom>
          <a:noFill/>
          <a:ln w="19080">
            <a:solidFill>
              <a:srgbClr val="990033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3568680" y="6119640"/>
                <a:ext cx="2394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3525840" y="5978520"/>
                <a:ext cx="32097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,</m:t>
                            </m:r>
                            <m:r>
                              <m:t xml:space="preserve"> </m:t>
                            </m:r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внеуз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4565520" y="5835600"/>
            <a:ext cx="311400" cy="266760"/>
          </a:xfrm>
          <a:custGeom>
            <a:avLst/>
            <a:gdLst/>
            <a:ahLst/>
            <a:rect l="l" t="t" r="r" b="b"/>
            <a:pathLst>
              <a:path w="196" h="168">
                <a:moveTo>
                  <a:pt x="0" y="0"/>
                </a:moveTo>
                <a:cubicBezTo>
                  <a:pt x="19" y="15"/>
                  <a:pt x="87" y="60"/>
                  <a:pt x="120" y="88"/>
                </a:cubicBezTo>
                <a:cubicBezTo>
                  <a:pt x="153" y="116"/>
                  <a:pt x="180" y="151"/>
                  <a:pt x="196" y="168"/>
                </a:cubicBezTo>
              </a:path>
            </a:pathLst>
          </a:custGeom>
          <a:noFill/>
          <a:ln w="19080">
            <a:solidFill>
              <a:srgbClr val="009999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556000" y="3979800"/>
            <a:ext cx="22320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вновес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стояние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го эле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МАТРИЧНОЙ ФОРМЕ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114560" y="981000"/>
            <a:ext cx="68421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ределение реакций связей в ОСМП   к и н е м а т и ч е с к и м    м е т о д о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908000" y="1374840"/>
            <a:ext cx="5256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через работу концевых усилий и узловых нагру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4780080" y="1557360"/>
                <a:ext cx="2163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2370240" y="1676520"/>
            <a:ext cx="2448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казательство теор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30400" y="2529000"/>
            <a:ext cx="2090520" cy="1054080"/>
          </a:xfrm>
          <a:custGeom>
            <a:avLst/>
            <a:gdLst/>
            <a:ahLst/>
            <a:rect l="l" t="t" r="r" b="b"/>
            <a:pathLst>
              <a:path w="1317" h="664">
                <a:moveTo>
                  <a:pt x="0" y="0"/>
                </a:moveTo>
                <a:lnTo>
                  <a:pt x="1317" y="66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2114640" y="2627280"/>
            <a:ext cx="7776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411280" y="3035160"/>
            <a:ext cx="36720" cy="1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549520" y="3071880"/>
            <a:ext cx="3636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00360" y="3112920"/>
            <a:ext cx="17280" cy="19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838600" y="31971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2979360" y="3313080"/>
            <a:ext cx="2556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406600" y="3035160"/>
            <a:ext cx="598680" cy="281160"/>
          </a:xfrm>
          <a:custGeom>
            <a:avLst/>
            <a:gdLst/>
            <a:ahLst/>
            <a:rect l="l" t="t" r="r" b="b"/>
            <a:pathLst>
              <a:path w="377" h="234">
                <a:moveTo>
                  <a:pt x="0" y="0"/>
                </a:moveTo>
                <a:cubicBezTo>
                  <a:pt x="16" y="4"/>
                  <a:pt x="66" y="12"/>
                  <a:pt x="97" y="22"/>
                </a:cubicBezTo>
                <a:cubicBezTo>
                  <a:pt x="128" y="32"/>
                  <a:pt x="158" y="41"/>
                  <a:pt x="189" y="58"/>
                </a:cubicBezTo>
                <a:cubicBezTo>
                  <a:pt x="220" y="75"/>
                  <a:pt x="250" y="97"/>
                  <a:pt x="281" y="126"/>
                </a:cubicBezTo>
                <a:cubicBezTo>
                  <a:pt x="312" y="155"/>
                  <a:pt x="357" y="212"/>
                  <a:pt x="377" y="23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133720" y="2479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98840" y="2755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17800" y="3108240"/>
            <a:ext cx="287280" cy="28908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rot="7046400">
            <a:off x="2602440" y="2100600"/>
            <a:ext cx="214200" cy="1133640"/>
          </a:xfrm>
          <a:custGeom>
            <a:avLst/>
            <a:gdLst>
              <a:gd name="textAreaLeft" fmla="*/ 136800 w 214200"/>
              <a:gd name="textAreaRight" fmla="*/ 214560 w 21420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1570800">
            <a:off x="2280960" y="2197080"/>
            <a:ext cx="109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неузловые 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050920" y="3043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663560" y="345924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66800" y="34606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7440" y="3616200"/>
            <a:ext cx="1150920" cy="863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35200" y="38210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58880" y="389880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679400" y="3890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98600" y="4460760"/>
            <a:ext cx="1150920" cy="43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77720" y="4502160"/>
            <a:ext cx="12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мещени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63560" y="434196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11440" y="43178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251080" y="389880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259000" y="38577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066760" y="3506760"/>
            <a:ext cx="144720" cy="1224000"/>
          </a:xfrm>
          <a:custGeom>
            <a:avLst/>
            <a:gdLst>
              <a:gd name="textAreaLeft" fmla="*/ 0 w 144720"/>
              <a:gd name="textAreaRight" fmla="*/ 5220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19720" y="2881440"/>
            <a:ext cx="2046240" cy="1035000"/>
          </a:xfrm>
          <a:custGeom>
            <a:avLst/>
            <a:gdLst/>
            <a:ahLst/>
            <a:rect l="l" t="t" r="r" b="b"/>
            <a:pathLst>
              <a:path w="1289" h="652">
                <a:moveTo>
                  <a:pt x="0" y="0"/>
                </a:moveTo>
                <a:lnTo>
                  <a:pt x="1289" y="652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404040" y="3359160"/>
            <a:ext cx="287280" cy="28908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83080" y="2440080"/>
            <a:ext cx="2349720" cy="1873080"/>
          </a:xfrm>
          <a:custGeom>
            <a:avLst/>
            <a:gdLst/>
            <a:ahLst/>
            <a:rect l="l" t="t" r="r" b="b"/>
            <a:pathLst>
              <a:path w="1480" h="1180">
                <a:moveTo>
                  <a:pt x="0" y="0"/>
                </a:moveTo>
                <a:cubicBezTo>
                  <a:pt x="19" y="28"/>
                  <a:pt x="73" y="116"/>
                  <a:pt x="116" y="168"/>
                </a:cubicBezTo>
                <a:cubicBezTo>
                  <a:pt x="159" y="220"/>
                  <a:pt x="197" y="265"/>
                  <a:pt x="260" y="312"/>
                </a:cubicBezTo>
                <a:cubicBezTo>
                  <a:pt x="323" y="359"/>
                  <a:pt x="391" y="403"/>
                  <a:pt x="496" y="452"/>
                </a:cubicBezTo>
                <a:cubicBezTo>
                  <a:pt x="601" y="501"/>
                  <a:pt x="778" y="557"/>
                  <a:pt x="888" y="608"/>
                </a:cubicBezTo>
                <a:cubicBezTo>
                  <a:pt x="998" y="659"/>
                  <a:pt x="1080" y="703"/>
                  <a:pt x="1156" y="760"/>
                </a:cubicBezTo>
                <a:cubicBezTo>
                  <a:pt x="1232" y="817"/>
                  <a:pt x="1290" y="878"/>
                  <a:pt x="1344" y="948"/>
                </a:cubicBezTo>
                <a:cubicBezTo>
                  <a:pt x="1398" y="1018"/>
                  <a:pt x="1452" y="1132"/>
                  <a:pt x="1480" y="11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432480" y="3278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010200" y="367992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56280" y="36338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629240" y="3573360"/>
            <a:ext cx="15843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иртуаль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возмож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мещ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081240" y="4425840"/>
            <a:ext cx="3672000" cy="51012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3917880" y="4441680"/>
                <a:ext cx="272088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4356000" y="4819680"/>
                <a:ext cx="3310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4124160" y="5489640"/>
                <a:ext cx="20973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5303880" y="285588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318280" y="2463840"/>
            <a:ext cx="54000" cy="39528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334120" y="2513160"/>
            <a:ext cx="166680" cy="339480"/>
          </a:xfrm>
          <a:custGeom>
            <a:avLst/>
            <a:gdLst/>
            <a:ahLst/>
            <a:rect l="l" t="t" r="r" b="b"/>
            <a:pathLst>
              <a:path w="105" h="214">
                <a:moveTo>
                  <a:pt x="0" y="214"/>
                </a:moveTo>
                <a:lnTo>
                  <a:pt x="105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 flipV="1">
            <a:off x="5187600" y="2801880"/>
            <a:ext cx="119160" cy="61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5194440" y="2449440"/>
            <a:ext cx="179280" cy="3603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78400" y="2443320"/>
            <a:ext cx="125640" cy="6192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064120" y="224640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013360" y="271764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557680" y="222876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502240" y="2455920"/>
            <a:ext cx="125280" cy="54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 flipV="1">
            <a:off x="5468400" y="2488680"/>
            <a:ext cx="37332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5384880" y="2475000"/>
            <a:ext cx="216000" cy="45072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584680" y="2657520"/>
            <a:ext cx="209520" cy="22212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72160" y="261468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396200" y="3935520"/>
            <a:ext cx="93492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362720" y="3903840"/>
            <a:ext cx="367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396200" y="3943440"/>
            <a:ext cx="323640" cy="37764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396200" y="3930480"/>
            <a:ext cx="420480" cy="227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95760" y="3936960"/>
            <a:ext cx="73080" cy="154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296120" y="4087800"/>
            <a:ext cx="420840" cy="2271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7730640" y="4159080"/>
            <a:ext cx="71640" cy="14472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704000" y="405612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724880" y="384660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062840" y="394956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947000" y="448308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 flipV="1">
            <a:off x="7730640" y="4316040"/>
            <a:ext cx="37332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7721280" y="4302000"/>
            <a:ext cx="198360" cy="39528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905600" y="4492800"/>
            <a:ext cx="179640" cy="17928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383080" y="2201400"/>
            <a:ext cx="119160" cy="23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278920" y="424008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75160" y="18939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96760" y="24843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H="1" flipV="1">
            <a:off x="654120" y="2276640"/>
            <a:ext cx="449280" cy="23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1087560" y="2244240"/>
            <a:ext cx="14580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rot="17520000">
            <a:off x="816840" y="2276280"/>
            <a:ext cx="433080" cy="4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4" y="8426"/>
                </a:moveTo>
                <a:arcTo wR="10800" hR="10800" stAng="-10038120" swAng="10274913"/>
                <a:lnTo>
                  <a:pt x="10800" y="10800"/>
                </a:lnTo>
                <a:close/>
              </a:path>
              <a:path fill="none" w="21600" h="21600">
                <a:moveTo>
                  <a:pt x="264" y="8426"/>
                </a:moveTo>
                <a:arcTo wR="10800" hR="10800" stAng="-10038120" swAng="1027491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006720" y="320184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257640" y="3284640"/>
            <a:ext cx="162000" cy="30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38560" y="3591000"/>
            <a:ext cx="466560" cy="247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rot="9813000">
            <a:off x="3054240" y="3344760"/>
            <a:ext cx="394920" cy="43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" y="11449"/>
                </a:moveTo>
                <a:arcTo wR="10800" hR="10800" stAng="10593398" swAng="11243394"/>
                <a:lnTo>
                  <a:pt x="10800" y="10800"/>
                </a:lnTo>
                <a:close/>
              </a:path>
              <a:path fill="none" w="21600" h="21600">
                <a:moveTo>
                  <a:pt x="19" y="11449"/>
                </a:moveTo>
                <a:arcTo wR="10800" hR="10800" stAng="10593398" swAng="1124339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1099800" y="2457360"/>
            <a:ext cx="7308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3177720" y="3506760"/>
            <a:ext cx="7308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6960" y="4960800"/>
            <a:ext cx="2016000" cy="505080"/>
          </a:xfrm>
          <a:prstGeom prst="rect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809640" y="5011560"/>
                <a:ext cx="1827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378000" y="5354640"/>
                <a:ext cx="22539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,</m:t>
                            </m:r>
                            <m:r>
                              <m:t xml:space="preserve"> </m:t>
                            </m:r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,</m:t>
                            </m:r>
                            <m:r>
                              <m:t xml:space="preserve"> </m:t>
                            </m:r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1433520" y="5969160"/>
                <a:ext cx="15955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,</m:t>
                            </m:r>
                            <m:r>
                              <m:t xml:space="preserve"> </m:t>
                            </m:r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2768760" y="5842080"/>
            <a:ext cx="2412720" cy="330120"/>
          </a:xfrm>
          <a:custGeom>
            <a:avLst/>
            <a:gdLst/>
            <a:ahLst/>
            <a:rect l="l" t="t" r="r" b="b"/>
            <a:pathLst>
              <a:path w="1520" h="208">
                <a:moveTo>
                  <a:pt x="0" y="208"/>
                </a:moveTo>
                <a:cubicBezTo>
                  <a:pt x="37" y="197"/>
                  <a:pt x="137" y="159"/>
                  <a:pt x="220" y="140"/>
                </a:cubicBezTo>
                <a:cubicBezTo>
                  <a:pt x="303" y="121"/>
                  <a:pt x="402" y="101"/>
                  <a:pt x="500" y="92"/>
                </a:cubicBezTo>
                <a:cubicBezTo>
                  <a:pt x="598" y="83"/>
                  <a:pt x="691" y="88"/>
                  <a:pt x="808" y="84"/>
                </a:cubicBezTo>
                <a:cubicBezTo>
                  <a:pt x="925" y="80"/>
                  <a:pt x="1081" y="82"/>
                  <a:pt x="1200" y="68"/>
                </a:cubicBezTo>
                <a:cubicBezTo>
                  <a:pt x="1319" y="54"/>
                  <a:pt x="1453" y="14"/>
                  <a:pt x="1520" y="0"/>
                </a:cubicBezTo>
              </a:path>
            </a:pathLst>
          </a:custGeom>
          <a:noFill/>
          <a:ln w="19080">
            <a:solidFill>
              <a:srgbClr val="990033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3529080" y="5978520"/>
                <a:ext cx="32097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,</m:t>
                            </m:r>
                            <m:r>
                              <m:t xml:space="preserve"> </m:t>
                            </m:r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внеуз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4565520" y="5835600"/>
            <a:ext cx="311400" cy="266760"/>
          </a:xfrm>
          <a:custGeom>
            <a:avLst/>
            <a:gdLst/>
            <a:ahLst/>
            <a:rect l="l" t="t" r="r" b="b"/>
            <a:pathLst>
              <a:path w="196" h="168">
                <a:moveTo>
                  <a:pt x="0" y="0"/>
                </a:moveTo>
                <a:cubicBezTo>
                  <a:pt x="19" y="15"/>
                  <a:pt x="87" y="60"/>
                  <a:pt x="120" y="88"/>
                </a:cubicBezTo>
                <a:cubicBezTo>
                  <a:pt x="153" y="116"/>
                  <a:pt x="180" y="151"/>
                  <a:pt x="196" y="168"/>
                </a:cubicBezTo>
              </a:path>
            </a:pathLst>
          </a:custGeom>
          <a:noFill/>
          <a:ln w="19080">
            <a:solidFill>
              <a:srgbClr val="009999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900000" y="5265720"/>
            <a:ext cx="2881440" cy="830160"/>
          </a:xfrm>
          <a:custGeom>
            <a:avLst/>
            <a:gdLst/>
            <a:ahLst/>
            <a:rect l="l" t="t" r="r" b="b"/>
            <a:pathLst>
              <a:path w="1815" h="523">
                <a:moveTo>
                  <a:pt x="0" y="140"/>
                </a:moveTo>
                <a:cubicBezTo>
                  <a:pt x="31" y="126"/>
                  <a:pt x="98" y="76"/>
                  <a:pt x="183" y="55"/>
                </a:cubicBezTo>
                <a:cubicBezTo>
                  <a:pt x="268" y="34"/>
                  <a:pt x="380" y="19"/>
                  <a:pt x="513" y="13"/>
                </a:cubicBezTo>
                <a:cubicBezTo>
                  <a:pt x="646" y="7"/>
                  <a:pt x="825" y="0"/>
                  <a:pt x="981" y="19"/>
                </a:cubicBezTo>
                <a:cubicBezTo>
                  <a:pt x="1137" y="38"/>
                  <a:pt x="1328" y="79"/>
                  <a:pt x="1449" y="127"/>
                </a:cubicBezTo>
                <a:cubicBezTo>
                  <a:pt x="1570" y="175"/>
                  <a:pt x="1646" y="241"/>
                  <a:pt x="1707" y="307"/>
                </a:cubicBezTo>
                <a:cubicBezTo>
                  <a:pt x="1768" y="373"/>
                  <a:pt x="1792" y="478"/>
                  <a:pt x="1815" y="523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886040" y="5867280"/>
            <a:ext cx="552240" cy="324000"/>
          </a:xfrm>
          <a:custGeom>
            <a:avLst/>
            <a:gdLst/>
            <a:ahLst/>
            <a:rect l="l" t="t" r="r" b="b"/>
            <a:pathLst>
              <a:path w="348" h="204">
                <a:moveTo>
                  <a:pt x="0" y="0"/>
                </a:moveTo>
                <a:cubicBezTo>
                  <a:pt x="37" y="22"/>
                  <a:pt x="158" y="98"/>
                  <a:pt x="216" y="132"/>
                </a:cubicBezTo>
                <a:cubicBezTo>
                  <a:pt x="274" y="166"/>
                  <a:pt x="320" y="189"/>
                  <a:pt x="348" y="20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477720" y="2556000"/>
                <a:ext cx="509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455760" y="1976400"/>
                <a:ext cx="474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1104840" y="1951200"/>
                <a:ext cx="438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2689200" y="3625920"/>
                <a:ext cx="509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3294000" y="2984400"/>
                <a:ext cx="438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3645000" y="3716280"/>
                <a:ext cx="474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771640" y="4797360"/>
                <a:ext cx="14400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0" name=""/>
          <p:cNvSpPr/>
          <p:nvPr/>
        </p:nvSpPr>
        <p:spPr>
          <a:xfrm rot="2418000">
            <a:off x="2409840" y="4341600"/>
            <a:ext cx="200160" cy="774720"/>
          </a:xfrm>
          <a:prstGeom prst="downArrow">
            <a:avLst>
              <a:gd name="adj1" fmla="val 45019"/>
              <a:gd name="adj2" fmla="val 76120"/>
            </a:avLst>
          </a:prstGeom>
          <a:solidFill>
            <a:srgbClr val="caffa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556000" y="3979800"/>
            <a:ext cx="22320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вновес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стояние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го эле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МАТРИЧНОЙ ФОРМЕ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114560" y="981000"/>
            <a:ext cx="68421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ределение реакций связей в ОСМП   к и н е м а т и ч е с к и м    м е т о д о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908000" y="1374840"/>
            <a:ext cx="5256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через работу концевых усилий и узловых нагру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780080" y="1557360"/>
                <a:ext cx="2163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2370240" y="1676520"/>
            <a:ext cx="2448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казательство теор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130400" y="2529000"/>
            <a:ext cx="2090520" cy="1054080"/>
          </a:xfrm>
          <a:custGeom>
            <a:avLst/>
            <a:gdLst/>
            <a:ahLst/>
            <a:rect l="l" t="t" r="r" b="b"/>
            <a:pathLst>
              <a:path w="1317" h="664">
                <a:moveTo>
                  <a:pt x="0" y="0"/>
                </a:moveTo>
                <a:lnTo>
                  <a:pt x="1317" y="66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114640" y="2627280"/>
            <a:ext cx="7776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411280" y="3035160"/>
            <a:ext cx="36720" cy="1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49520" y="3071880"/>
            <a:ext cx="3636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700360" y="3112920"/>
            <a:ext cx="17280" cy="19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838600" y="31971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2979360" y="3313080"/>
            <a:ext cx="2556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406600" y="3035160"/>
            <a:ext cx="598680" cy="281160"/>
          </a:xfrm>
          <a:custGeom>
            <a:avLst/>
            <a:gdLst/>
            <a:ahLst/>
            <a:rect l="l" t="t" r="r" b="b"/>
            <a:pathLst>
              <a:path w="377" h="234">
                <a:moveTo>
                  <a:pt x="0" y="0"/>
                </a:moveTo>
                <a:cubicBezTo>
                  <a:pt x="16" y="4"/>
                  <a:pt x="66" y="12"/>
                  <a:pt x="97" y="22"/>
                </a:cubicBezTo>
                <a:cubicBezTo>
                  <a:pt x="128" y="32"/>
                  <a:pt x="158" y="41"/>
                  <a:pt x="189" y="58"/>
                </a:cubicBezTo>
                <a:cubicBezTo>
                  <a:pt x="220" y="75"/>
                  <a:pt x="250" y="97"/>
                  <a:pt x="281" y="126"/>
                </a:cubicBezTo>
                <a:cubicBezTo>
                  <a:pt x="312" y="155"/>
                  <a:pt x="357" y="212"/>
                  <a:pt x="377" y="23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133720" y="2479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598840" y="2755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017800" y="3108240"/>
            <a:ext cx="287280" cy="28908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rot="7046400">
            <a:off x="2602440" y="2100600"/>
            <a:ext cx="214200" cy="1133640"/>
          </a:xfrm>
          <a:custGeom>
            <a:avLst/>
            <a:gdLst>
              <a:gd name="textAreaLeft" fmla="*/ 136800 w 214200"/>
              <a:gd name="textAreaRight" fmla="*/ 214560 w 21420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1570800">
            <a:off x="2280960" y="2197080"/>
            <a:ext cx="109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неузловые 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050920" y="3043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663560" y="345924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666800" y="34606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87440" y="3616200"/>
            <a:ext cx="1150920" cy="863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35200" y="38210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658880" y="389880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679400" y="3890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98600" y="4460760"/>
            <a:ext cx="1150920" cy="43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77720" y="4502160"/>
            <a:ext cx="12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мещени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663560" y="434196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711440" y="43178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251080" y="389880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259000" y="38577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066760" y="3506760"/>
            <a:ext cx="144720" cy="1224000"/>
          </a:xfrm>
          <a:custGeom>
            <a:avLst/>
            <a:gdLst>
              <a:gd name="textAreaLeft" fmla="*/ 0 w 144720"/>
              <a:gd name="textAreaRight" fmla="*/ 5220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319720" y="2881440"/>
            <a:ext cx="2046240" cy="1035000"/>
          </a:xfrm>
          <a:custGeom>
            <a:avLst/>
            <a:gdLst/>
            <a:ahLst/>
            <a:rect l="l" t="t" r="r" b="b"/>
            <a:pathLst>
              <a:path w="1289" h="652">
                <a:moveTo>
                  <a:pt x="0" y="0"/>
                </a:moveTo>
                <a:lnTo>
                  <a:pt x="1289" y="652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04040" y="3359160"/>
            <a:ext cx="287280" cy="28908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383080" y="2440080"/>
            <a:ext cx="2349720" cy="1873080"/>
          </a:xfrm>
          <a:custGeom>
            <a:avLst/>
            <a:gdLst/>
            <a:ahLst/>
            <a:rect l="l" t="t" r="r" b="b"/>
            <a:pathLst>
              <a:path w="1480" h="1180">
                <a:moveTo>
                  <a:pt x="0" y="0"/>
                </a:moveTo>
                <a:cubicBezTo>
                  <a:pt x="19" y="28"/>
                  <a:pt x="73" y="116"/>
                  <a:pt x="116" y="168"/>
                </a:cubicBezTo>
                <a:cubicBezTo>
                  <a:pt x="159" y="220"/>
                  <a:pt x="197" y="265"/>
                  <a:pt x="260" y="312"/>
                </a:cubicBezTo>
                <a:cubicBezTo>
                  <a:pt x="323" y="359"/>
                  <a:pt x="391" y="403"/>
                  <a:pt x="496" y="452"/>
                </a:cubicBezTo>
                <a:cubicBezTo>
                  <a:pt x="601" y="501"/>
                  <a:pt x="778" y="557"/>
                  <a:pt x="888" y="608"/>
                </a:cubicBezTo>
                <a:cubicBezTo>
                  <a:pt x="998" y="659"/>
                  <a:pt x="1080" y="703"/>
                  <a:pt x="1156" y="760"/>
                </a:cubicBezTo>
                <a:cubicBezTo>
                  <a:pt x="1232" y="817"/>
                  <a:pt x="1290" y="878"/>
                  <a:pt x="1344" y="948"/>
                </a:cubicBezTo>
                <a:cubicBezTo>
                  <a:pt x="1398" y="1018"/>
                  <a:pt x="1452" y="1132"/>
                  <a:pt x="1480" y="11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432480" y="3278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0200" y="367992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056280" y="36338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29240" y="3573360"/>
            <a:ext cx="15843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иртуаль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возмож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мещ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081240" y="4425840"/>
            <a:ext cx="3672000" cy="51012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917880" y="4441680"/>
                <a:ext cx="272088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4356000" y="4819680"/>
                <a:ext cx="3310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4124160" y="5489640"/>
                <a:ext cx="20973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>
            <a:off x="5303880" y="285588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5318280" y="2463840"/>
            <a:ext cx="54000" cy="39528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334120" y="2513160"/>
            <a:ext cx="166680" cy="339480"/>
          </a:xfrm>
          <a:custGeom>
            <a:avLst/>
            <a:gdLst/>
            <a:ahLst/>
            <a:rect l="l" t="t" r="r" b="b"/>
            <a:pathLst>
              <a:path w="105" h="214">
                <a:moveTo>
                  <a:pt x="0" y="214"/>
                </a:moveTo>
                <a:lnTo>
                  <a:pt x="105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 flipV="1">
            <a:off x="5187600" y="2801880"/>
            <a:ext cx="119160" cy="61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5194440" y="2449440"/>
            <a:ext cx="179280" cy="3603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378400" y="2443320"/>
            <a:ext cx="125640" cy="6192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064120" y="224640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013360" y="271764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557680" y="222876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5502240" y="2455920"/>
            <a:ext cx="125280" cy="54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5468400" y="2488680"/>
            <a:ext cx="37332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 flipV="1">
            <a:off x="5384880" y="2475000"/>
            <a:ext cx="216000" cy="45072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584680" y="2657520"/>
            <a:ext cx="209520" cy="22212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672160" y="261468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96200" y="3935520"/>
            <a:ext cx="93492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362720" y="3903840"/>
            <a:ext cx="367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396200" y="3943440"/>
            <a:ext cx="323640" cy="37764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396200" y="3930480"/>
            <a:ext cx="420480" cy="227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7295760" y="3936960"/>
            <a:ext cx="73080" cy="154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296120" y="4087800"/>
            <a:ext cx="420840" cy="2271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7730640" y="4159080"/>
            <a:ext cx="71640" cy="14472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04000" y="405612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724880" y="384660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062840" y="394956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947000" y="448308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7730640" y="4316040"/>
            <a:ext cx="37332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7721280" y="4302000"/>
            <a:ext cx="198360" cy="39528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905600" y="4492800"/>
            <a:ext cx="179640" cy="17928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5383080" y="2201400"/>
            <a:ext cx="119160" cy="23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8278920" y="424008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375160" y="18939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96760" y="24843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654120" y="2276640"/>
            <a:ext cx="449280" cy="23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1087560" y="2244240"/>
            <a:ext cx="14580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rot="17520000">
            <a:off x="816840" y="2276280"/>
            <a:ext cx="433080" cy="4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4" y="8426"/>
                </a:moveTo>
                <a:arcTo wR="10800" hR="10800" stAng="-10038120" swAng="10274913"/>
                <a:lnTo>
                  <a:pt x="10800" y="10800"/>
                </a:lnTo>
                <a:close/>
              </a:path>
              <a:path fill="none" w="21600" h="21600">
                <a:moveTo>
                  <a:pt x="264" y="8426"/>
                </a:moveTo>
                <a:arcTo wR="10800" hR="10800" stAng="-10038120" swAng="1027491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06720" y="320184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257640" y="3284640"/>
            <a:ext cx="162000" cy="30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238560" y="3591000"/>
            <a:ext cx="466560" cy="247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rot="9813000">
            <a:off x="3054240" y="3344760"/>
            <a:ext cx="394920" cy="43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" y="11449"/>
                </a:moveTo>
                <a:arcTo wR="10800" hR="10800" stAng="10593398" swAng="11243394"/>
                <a:lnTo>
                  <a:pt x="10800" y="10800"/>
                </a:lnTo>
                <a:close/>
              </a:path>
              <a:path fill="none" w="21600" h="21600">
                <a:moveTo>
                  <a:pt x="19" y="11449"/>
                </a:moveTo>
                <a:arcTo wR="10800" hR="10800" stAng="10593398" swAng="1124339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1099800" y="2457360"/>
            <a:ext cx="7308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3177720" y="3506760"/>
            <a:ext cx="7308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378000" y="5354640"/>
                <a:ext cx="22539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,</m:t>
                            </m:r>
                            <m:r>
                              <m:t xml:space="preserve"> </m:t>
                            </m:r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,</m:t>
                            </m:r>
                            <m:r>
                              <m:t xml:space="preserve"> </m:t>
                            </m:r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1433520" y="5969160"/>
                <a:ext cx="15955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,</m:t>
                            </m:r>
                            <m:r>
                              <m:t xml:space="preserve"> </m:t>
                            </m:r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2768760" y="5842080"/>
            <a:ext cx="2412720" cy="330120"/>
          </a:xfrm>
          <a:custGeom>
            <a:avLst/>
            <a:gdLst/>
            <a:ahLst/>
            <a:rect l="l" t="t" r="r" b="b"/>
            <a:pathLst>
              <a:path w="1520" h="208">
                <a:moveTo>
                  <a:pt x="0" y="208"/>
                </a:moveTo>
                <a:cubicBezTo>
                  <a:pt x="37" y="197"/>
                  <a:pt x="137" y="159"/>
                  <a:pt x="220" y="140"/>
                </a:cubicBezTo>
                <a:cubicBezTo>
                  <a:pt x="303" y="121"/>
                  <a:pt x="402" y="101"/>
                  <a:pt x="500" y="92"/>
                </a:cubicBezTo>
                <a:cubicBezTo>
                  <a:pt x="598" y="83"/>
                  <a:pt x="691" y="88"/>
                  <a:pt x="808" y="84"/>
                </a:cubicBezTo>
                <a:cubicBezTo>
                  <a:pt x="925" y="80"/>
                  <a:pt x="1081" y="82"/>
                  <a:pt x="1200" y="68"/>
                </a:cubicBezTo>
                <a:cubicBezTo>
                  <a:pt x="1319" y="54"/>
                  <a:pt x="1453" y="14"/>
                  <a:pt x="1520" y="0"/>
                </a:cubicBezTo>
              </a:path>
            </a:pathLst>
          </a:custGeom>
          <a:noFill/>
          <a:ln w="19080">
            <a:solidFill>
              <a:srgbClr val="990033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3529080" y="5978520"/>
                <a:ext cx="32097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,</m:t>
                            </m:r>
                            <m:r>
                              <m:t xml:space="preserve"> </m:t>
                            </m:r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внеуз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01" name=""/>
          <p:cNvSpPr/>
          <p:nvPr/>
        </p:nvSpPr>
        <p:spPr>
          <a:xfrm>
            <a:off x="4565520" y="5835600"/>
            <a:ext cx="311400" cy="266760"/>
          </a:xfrm>
          <a:custGeom>
            <a:avLst/>
            <a:gdLst/>
            <a:ahLst/>
            <a:rect l="l" t="t" r="r" b="b"/>
            <a:pathLst>
              <a:path w="196" h="168">
                <a:moveTo>
                  <a:pt x="0" y="0"/>
                </a:moveTo>
                <a:cubicBezTo>
                  <a:pt x="19" y="15"/>
                  <a:pt x="87" y="60"/>
                  <a:pt x="120" y="88"/>
                </a:cubicBezTo>
                <a:cubicBezTo>
                  <a:pt x="153" y="116"/>
                  <a:pt x="180" y="151"/>
                  <a:pt x="196" y="168"/>
                </a:cubicBezTo>
              </a:path>
            </a:pathLst>
          </a:custGeom>
          <a:noFill/>
          <a:ln w="19080">
            <a:solidFill>
              <a:srgbClr val="009999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886040" y="5867280"/>
            <a:ext cx="552240" cy="324000"/>
          </a:xfrm>
          <a:custGeom>
            <a:avLst/>
            <a:gdLst/>
            <a:ahLst/>
            <a:rect l="l" t="t" r="r" b="b"/>
            <a:pathLst>
              <a:path w="348" h="204">
                <a:moveTo>
                  <a:pt x="0" y="0"/>
                </a:moveTo>
                <a:cubicBezTo>
                  <a:pt x="37" y="22"/>
                  <a:pt x="158" y="98"/>
                  <a:pt x="216" y="132"/>
                </a:cubicBezTo>
                <a:cubicBezTo>
                  <a:pt x="274" y="166"/>
                  <a:pt x="320" y="189"/>
                  <a:pt x="348" y="20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546120" y="5362560"/>
                <a:ext cx="2801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4" name=""/>
          <p:cNvSpPr/>
          <p:nvPr/>
        </p:nvSpPr>
        <p:spPr>
          <a:xfrm>
            <a:off x="900000" y="5265720"/>
            <a:ext cx="2881440" cy="830160"/>
          </a:xfrm>
          <a:custGeom>
            <a:avLst/>
            <a:gdLst/>
            <a:ahLst/>
            <a:rect l="l" t="t" r="r" b="b"/>
            <a:pathLst>
              <a:path w="1815" h="523">
                <a:moveTo>
                  <a:pt x="0" y="140"/>
                </a:moveTo>
                <a:cubicBezTo>
                  <a:pt x="31" y="126"/>
                  <a:pt x="98" y="76"/>
                  <a:pt x="183" y="55"/>
                </a:cubicBezTo>
                <a:cubicBezTo>
                  <a:pt x="268" y="34"/>
                  <a:pt x="380" y="19"/>
                  <a:pt x="513" y="13"/>
                </a:cubicBezTo>
                <a:cubicBezTo>
                  <a:pt x="646" y="7"/>
                  <a:pt x="825" y="0"/>
                  <a:pt x="981" y="19"/>
                </a:cubicBezTo>
                <a:cubicBezTo>
                  <a:pt x="1137" y="38"/>
                  <a:pt x="1328" y="79"/>
                  <a:pt x="1449" y="127"/>
                </a:cubicBezTo>
                <a:cubicBezTo>
                  <a:pt x="1570" y="175"/>
                  <a:pt x="1646" y="241"/>
                  <a:pt x="1707" y="307"/>
                </a:cubicBezTo>
                <a:cubicBezTo>
                  <a:pt x="1768" y="373"/>
                  <a:pt x="1792" y="478"/>
                  <a:pt x="1815" y="523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785960" y="5276880"/>
            <a:ext cx="447480" cy="200160"/>
          </a:xfrm>
          <a:custGeom>
            <a:avLst/>
            <a:gdLst/>
            <a:ahLst/>
            <a:rect l="l" t="t" r="r" b="b"/>
            <a:pathLst>
              <a:path w="282" h="126">
                <a:moveTo>
                  <a:pt x="0" y="126"/>
                </a:moveTo>
                <a:cubicBezTo>
                  <a:pt x="13" y="115"/>
                  <a:pt x="55" y="77"/>
                  <a:pt x="84" y="60"/>
                </a:cubicBezTo>
                <a:cubicBezTo>
                  <a:pt x="113" y="43"/>
                  <a:pt x="138" y="34"/>
                  <a:pt x="171" y="24"/>
                </a:cubicBezTo>
                <a:cubicBezTo>
                  <a:pt x="204" y="14"/>
                  <a:pt x="259" y="5"/>
                  <a:pt x="282" y="0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577960" y="5891040"/>
            <a:ext cx="22320" cy="257400"/>
          </a:xfrm>
          <a:custGeom>
            <a:avLst/>
            <a:gdLst/>
            <a:ahLst/>
            <a:rect l="l" t="t" r="r" b="b"/>
            <a:pathLst>
              <a:path w="14" h="162">
                <a:moveTo>
                  <a:pt x="14" y="0"/>
                </a:moveTo>
                <a:cubicBezTo>
                  <a:pt x="13" y="14"/>
                  <a:pt x="4" y="60"/>
                  <a:pt x="2" y="87"/>
                </a:cubicBezTo>
                <a:cubicBezTo>
                  <a:pt x="0" y="114"/>
                  <a:pt x="5" y="147"/>
                  <a:pt x="5" y="162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477720" y="2556000"/>
                <a:ext cx="509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55760" y="1976400"/>
                <a:ext cx="474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1104840" y="1951200"/>
                <a:ext cx="438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2689200" y="3625920"/>
                <a:ext cx="509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3294000" y="2984400"/>
                <a:ext cx="438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2771640" y="4797360"/>
                <a:ext cx="14400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3645000" y="3716280"/>
                <a:ext cx="474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4" name=""/>
          <p:cNvSpPr/>
          <p:nvPr/>
        </p:nvSpPr>
        <p:spPr>
          <a:xfrm rot="2418000">
            <a:off x="2409840" y="4341600"/>
            <a:ext cx="200160" cy="774720"/>
          </a:xfrm>
          <a:prstGeom prst="downArrow">
            <a:avLst>
              <a:gd name="adj1" fmla="val 45019"/>
              <a:gd name="adj2" fmla="val 76120"/>
            </a:avLst>
          </a:prstGeom>
          <a:solidFill>
            <a:srgbClr val="caffa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556000" y="3979800"/>
            <a:ext cx="22320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вновес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стояние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го эле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0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МАТРИЧНОЙ ФОРМЕ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114560" y="981000"/>
            <a:ext cx="68421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ределение реакций связей в ОСМП   к и н е м а т и ч е с к и м    м е т о д о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08000" y="1374840"/>
            <a:ext cx="5256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через работу концевых усилий и узловых нагру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4780080" y="1557360"/>
                <a:ext cx="2163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>
            <a:off x="2370240" y="1676520"/>
            <a:ext cx="2448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казательство теор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130400" y="2529000"/>
            <a:ext cx="2090520" cy="1054080"/>
          </a:xfrm>
          <a:custGeom>
            <a:avLst/>
            <a:gdLst/>
            <a:ahLst/>
            <a:rect l="l" t="t" r="r" b="b"/>
            <a:pathLst>
              <a:path w="1317" h="664">
                <a:moveTo>
                  <a:pt x="0" y="0"/>
                </a:moveTo>
                <a:lnTo>
                  <a:pt x="1317" y="66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2114640" y="2627280"/>
            <a:ext cx="7776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411280" y="3035160"/>
            <a:ext cx="36720" cy="1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549520" y="3071880"/>
            <a:ext cx="3636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700360" y="3112920"/>
            <a:ext cx="17280" cy="19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838600" y="31971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2979360" y="3313080"/>
            <a:ext cx="2556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406600" y="3035160"/>
            <a:ext cx="598680" cy="281160"/>
          </a:xfrm>
          <a:custGeom>
            <a:avLst/>
            <a:gdLst/>
            <a:ahLst/>
            <a:rect l="l" t="t" r="r" b="b"/>
            <a:pathLst>
              <a:path w="377" h="234">
                <a:moveTo>
                  <a:pt x="0" y="0"/>
                </a:moveTo>
                <a:cubicBezTo>
                  <a:pt x="16" y="4"/>
                  <a:pt x="66" y="12"/>
                  <a:pt x="97" y="22"/>
                </a:cubicBezTo>
                <a:cubicBezTo>
                  <a:pt x="128" y="32"/>
                  <a:pt x="158" y="41"/>
                  <a:pt x="189" y="58"/>
                </a:cubicBezTo>
                <a:cubicBezTo>
                  <a:pt x="220" y="75"/>
                  <a:pt x="250" y="97"/>
                  <a:pt x="281" y="126"/>
                </a:cubicBezTo>
                <a:cubicBezTo>
                  <a:pt x="312" y="155"/>
                  <a:pt x="357" y="212"/>
                  <a:pt x="377" y="23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133720" y="2479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98840" y="2755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17800" y="3108240"/>
            <a:ext cx="287280" cy="28908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7046400">
            <a:off x="2602440" y="2100600"/>
            <a:ext cx="214200" cy="1133640"/>
          </a:xfrm>
          <a:custGeom>
            <a:avLst/>
            <a:gdLst>
              <a:gd name="textAreaLeft" fmla="*/ 136800 w 214200"/>
              <a:gd name="textAreaRight" fmla="*/ 214560 w 21420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570800">
            <a:off x="2280960" y="2197080"/>
            <a:ext cx="109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неузловые 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050920" y="3043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663560" y="345924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666800" y="34606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7440" y="3616200"/>
            <a:ext cx="1150920" cy="863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835200" y="38210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58880" y="389880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679400" y="3890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98600" y="4460760"/>
            <a:ext cx="1150920" cy="4320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77720" y="4502160"/>
            <a:ext cx="12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мещени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663560" y="434196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711440" y="43178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251080" y="389880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259000" y="38577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66760" y="3506760"/>
            <a:ext cx="144720" cy="1224000"/>
          </a:xfrm>
          <a:custGeom>
            <a:avLst/>
            <a:gdLst>
              <a:gd name="textAreaLeft" fmla="*/ 0 w 144720"/>
              <a:gd name="textAreaRight" fmla="*/ 5220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319720" y="2881440"/>
            <a:ext cx="2046240" cy="1035000"/>
          </a:xfrm>
          <a:custGeom>
            <a:avLst/>
            <a:gdLst/>
            <a:ahLst/>
            <a:rect l="l" t="t" r="r" b="b"/>
            <a:pathLst>
              <a:path w="1289" h="652">
                <a:moveTo>
                  <a:pt x="0" y="0"/>
                </a:moveTo>
                <a:lnTo>
                  <a:pt x="1289" y="652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404040" y="3359160"/>
            <a:ext cx="287280" cy="28908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383080" y="2440080"/>
            <a:ext cx="2349720" cy="1873080"/>
          </a:xfrm>
          <a:custGeom>
            <a:avLst/>
            <a:gdLst/>
            <a:ahLst/>
            <a:rect l="l" t="t" r="r" b="b"/>
            <a:pathLst>
              <a:path w="1480" h="1180">
                <a:moveTo>
                  <a:pt x="0" y="0"/>
                </a:moveTo>
                <a:cubicBezTo>
                  <a:pt x="19" y="28"/>
                  <a:pt x="73" y="116"/>
                  <a:pt x="116" y="168"/>
                </a:cubicBezTo>
                <a:cubicBezTo>
                  <a:pt x="159" y="220"/>
                  <a:pt x="197" y="265"/>
                  <a:pt x="260" y="312"/>
                </a:cubicBezTo>
                <a:cubicBezTo>
                  <a:pt x="323" y="359"/>
                  <a:pt x="391" y="403"/>
                  <a:pt x="496" y="452"/>
                </a:cubicBezTo>
                <a:cubicBezTo>
                  <a:pt x="601" y="501"/>
                  <a:pt x="778" y="557"/>
                  <a:pt x="888" y="608"/>
                </a:cubicBezTo>
                <a:cubicBezTo>
                  <a:pt x="998" y="659"/>
                  <a:pt x="1080" y="703"/>
                  <a:pt x="1156" y="760"/>
                </a:cubicBezTo>
                <a:cubicBezTo>
                  <a:pt x="1232" y="817"/>
                  <a:pt x="1290" y="878"/>
                  <a:pt x="1344" y="948"/>
                </a:cubicBezTo>
                <a:cubicBezTo>
                  <a:pt x="1398" y="1018"/>
                  <a:pt x="1452" y="1132"/>
                  <a:pt x="1480" y="11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432480" y="3278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010200" y="367992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56280" y="36338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629240" y="3573360"/>
            <a:ext cx="15843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иртуаль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возмож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мещ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081240" y="4425840"/>
            <a:ext cx="3672000" cy="51012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917880" y="4441680"/>
                <a:ext cx="272088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4356000" y="4819680"/>
                <a:ext cx="33102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4124160" y="5489640"/>
                <a:ext cx="20973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0" name=""/>
          <p:cNvSpPr/>
          <p:nvPr/>
        </p:nvSpPr>
        <p:spPr>
          <a:xfrm>
            <a:off x="5303880" y="285588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5318280" y="2463840"/>
            <a:ext cx="54000" cy="39528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34120" y="2513160"/>
            <a:ext cx="166680" cy="339480"/>
          </a:xfrm>
          <a:custGeom>
            <a:avLst/>
            <a:gdLst/>
            <a:ahLst/>
            <a:rect l="l" t="t" r="r" b="b"/>
            <a:pathLst>
              <a:path w="105" h="214">
                <a:moveTo>
                  <a:pt x="0" y="214"/>
                </a:moveTo>
                <a:lnTo>
                  <a:pt x="105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5187600" y="2801880"/>
            <a:ext cx="119160" cy="61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5194440" y="2449440"/>
            <a:ext cx="179280" cy="3603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78400" y="2443320"/>
            <a:ext cx="125640" cy="6192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064120" y="224640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013360" y="271764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557680" y="222876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5502240" y="2455920"/>
            <a:ext cx="125280" cy="54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5468400" y="2488680"/>
            <a:ext cx="37332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384880" y="2475000"/>
            <a:ext cx="216000" cy="45072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584680" y="2657520"/>
            <a:ext cx="209520" cy="22212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672160" y="261468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396200" y="3935520"/>
            <a:ext cx="93492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362720" y="3903840"/>
            <a:ext cx="367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396200" y="3943440"/>
            <a:ext cx="323640" cy="37764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396200" y="3930480"/>
            <a:ext cx="420480" cy="227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7295760" y="3936960"/>
            <a:ext cx="73080" cy="154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296120" y="4087800"/>
            <a:ext cx="420840" cy="2271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7730640" y="4159080"/>
            <a:ext cx="71640" cy="14472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704000" y="405612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724880" y="384660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062840" y="394956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947000" y="448308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7730640" y="4316040"/>
            <a:ext cx="37332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7721280" y="4302000"/>
            <a:ext cx="198360" cy="39528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905600" y="4492800"/>
            <a:ext cx="179640" cy="17928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5383080" y="2201400"/>
            <a:ext cx="119160" cy="23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278920" y="424008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375160" y="18939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896760" y="24843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 flipV="1">
            <a:off x="654120" y="2276640"/>
            <a:ext cx="449280" cy="23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1087560" y="2244240"/>
            <a:ext cx="14580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rot="17520000">
            <a:off x="816840" y="2276280"/>
            <a:ext cx="433080" cy="4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4" y="8426"/>
                </a:moveTo>
                <a:arcTo wR="10800" hR="10800" stAng="-10038120" swAng="10274913"/>
                <a:lnTo>
                  <a:pt x="10800" y="10800"/>
                </a:lnTo>
                <a:close/>
              </a:path>
              <a:path fill="none" w="21600" h="21600">
                <a:moveTo>
                  <a:pt x="264" y="8426"/>
                </a:moveTo>
                <a:arcTo wR="10800" hR="10800" stAng="-10038120" swAng="1027491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006720" y="320184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257640" y="3284640"/>
            <a:ext cx="162000" cy="30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238560" y="3591000"/>
            <a:ext cx="466560" cy="247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rot="9813000">
            <a:off x="3054240" y="3344760"/>
            <a:ext cx="394920" cy="43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" y="11449"/>
                </a:moveTo>
                <a:arcTo wR="10800" hR="10800" stAng="10593398" swAng="11243394"/>
                <a:lnTo>
                  <a:pt x="10800" y="10800"/>
                </a:lnTo>
                <a:close/>
              </a:path>
              <a:path fill="none" w="21600" h="21600">
                <a:moveTo>
                  <a:pt x="19" y="11449"/>
                </a:moveTo>
                <a:arcTo wR="10800" hR="10800" stAng="10593398" swAng="1124339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1099800" y="2457360"/>
            <a:ext cx="7308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177720" y="3506760"/>
            <a:ext cx="7308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1405080" y="5959440"/>
                <a:ext cx="16542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,</m:t>
                            </m:r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Σ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2768760" y="5842080"/>
            <a:ext cx="2412720" cy="330120"/>
          </a:xfrm>
          <a:custGeom>
            <a:avLst/>
            <a:gdLst/>
            <a:ahLst/>
            <a:rect l="l" t="t" r="r" b="b"/>
            <a:pathLst>
              <a:path w="1520" h="208">
                <a:moveTo>
                  <a:pt x="0" y="208"/>
                </a:moveTo>
                <a:cubicBezTo>
                  <a:pt x="37" y="197"/>
                  <a:pt x="137" y="159"/>
                  <a:pt x="220" y="140"/>
                </a:cubicBezTo>
                <a:cubicBezTo>
                  <a:pt x="303" y="121"/>
                  <a:pt x="402" y="101"/>
                  <a:pt x="500" y="92"/>
                </a:cubicBezTo>
                <a:cubicBezTo>
                  <a:pt x="598" y="83"/>
                  <a:pt x="691" y="88"/>
                  <a:pt x="808" y="84"/>
                </a:cubicBezTo>
                <a:cubicBezTo>
                  <a:pt x="925" y="80"/>
                  <a:pt x="1081" y="82"/>
                  <a:pt x="1200" y="68"/>
                </a:cubicBezTo>
                <a:cubicBezTo>
                  <a:pt x="1319" y="54"/>
                  <a:pt x="1453" y="14"/>
                  <a:pt x="1520" y="0"/>
                </a:cubicBezTo>
              </a:path>
            </a:pathLst>
          </a:custGeom>
          <a:noFill/>
          <a:ln w="19080">
            <a:solidFill>
              <a:srgbClr val="990033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3529080" y="5978520"/>
                <a:ext cx="32097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,</m:t>
                            </m:r>
                            <m:r>
                              <m:t xml:space="preserve"> </m:t>
                            </m:r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внеузл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04" name=""/>
          <p:cNvSpPr/>
          <p:nvPr/>
        </p:nvSpPr>
        <p:spPr>
          <a:xfrm>
            <a:off x="4565520" y="5835600"/>
            <a:ext cx="311400" cy="266760"/>
          </a:xfrm>
          <a:custGeom>
            <a:avLst/>
            <a:gdLst/>
            <a:ahLst/>
            <a:rect l="l" t="t" r="r" b="b"/>
            <a:pathLst>
              <a:path w="196" h="168">
                <a:moveTo>
                  <a:pt x="0" y="0"/>
                </a:moveTo>
                <a:cubicBezTo>
                  <a:pt x="19" y="15"/>
                  <a:pt x="87" y="60"/>
                  <a:pt x="120" y="88"/>
                </a:cubicBezTo>
                <a:cubicBezTo>
                  <a:pt x="153" y="116"/>
                  <a:pt x="180" y="151"/>
                  <a:pt x="196" y="168"/>
                </a:cubicBezTo>
              </a:path>
            </a:pathLst>
          </a:custGeom>
          <a:noFill/>
          <a:ln w="19080">
            <a:solidFill>
              <a:srgbClr val="009999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546120" y="5361120"/>
                <a:ext cx="28018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6" name=""/>
          <p:cNvSpPr/>
          <p:nvPr/>
        </p:nvSpPr>
        <p:spPr>
          <a:xfrm>
            <a:off x="900000" y="5265720"/>
            <a:ext cx="2881440" cy="830160"/>
          </a:xfrm>
          <a:custGeom>
            <a:avLst/>
            <a:gdLst/>
            <a:ahLst/>
            <a:rect l="l" t="t" r="r" b="b"/>
            <a:pathLst>
              <a:path w="1815" h="523">
                <a:moveTo>
                  <a:pt x="0" y="140"/>
                </a:moveTo>
                <a:cubicBezTo>
                  <a:pt x="31" y="126"/>
                  <a:pt x="98" y="76"/>
                  <a:pt x="183" y="55"/>
                </a:cubicBezTo>
                <a:cubicBezTo>
                  <a:pt x="268" y="34"/>
                  <a:pt x="380" y="19"/>
                  <a:pt x="513" y="13"/>
                </a:cubicBezTo>
                <a:cubicBezTo>
                  <a:pt x="646" y="7"/>
                  <a:pt x="825" y="0"/>
                  <a:pt x="981" y="19"/>
                </a:cubicBezTo>
                <a:cubicBezTo>
                  <a:pt x="1137" y="38"/>
                  <a:pt x="1328" y="79"/>
                  <a:pt x="1449" y="127"/>
                </a:cubicBezTo>
                <a:cubicBezTo>
                  <a:pt x="1570" y="175"/>
                  <a:pt x="1646" y="241"/>
                  <a:pt x="1707" y="307"/>
                </a:cubicBezTo>
                <a:cubicBezTo>
                  <a:pt x="1768" y="373"/>
                  <a:pt x="1792" y="478"/>
                  <a:pt x="1815" y="523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785960" y="5276880"/>
            <a:ext cx="447480" cy="200160"/>
          </a:xfrm>
          <a:custGeom>
            <a:avLst/>
            <a:gdLst/>
            <a:ahLst/>
            <a:rect l="l" t="t" r="r" b="b"/>
            <a:pathLst>
              <a:path w="282" h="126">
                <a:moveTo>
                  <a:pt x="0" y="126"/>
                </a:moveTo>
                <a:cubicBezTo>
                  <a:pt x="13" y="115"/>
                  <a:pt x="55" y="77"/>
                  <a:pt x="84" y="60"/>
                </a:cubicBezTo>
                <a:cubicBezTo>
                  <a:pt x="113" y="43"/>
                  <a:pt x="138" y="34"/>
                  <a:pt x="171" y="24"/>
                </a:cubicBezTo>
                <a:cubicBezTo>
                  <a:pt x="204" y="14"/>
                  <a:pt x="259" y="5"/>
                  <a:pt x="282" y="0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577960" y="5891040"/>
            <a:ext cx="22320" cy="257400"/>
          </a:xfrm>
          <a:custGeom>
            <a:avLst/>
            <a:gdLst/>
            <a:ahLst/>
            <a:rect l="l" t="t" r="r" b="b"/>
            <a:pathLst>
              <a:path w="14" h="162">
                <a:moveTo>
                  <a:pt x="14" y="0"/>
                </a:moveTo>
                <a:cubicBezTo>
                  <a:pt x="13" y="14"/>
                  <a:pt x="4" y="60"/>
                  <a:pt x="2" y="87"/>
                </a:cubicBezTo>
                <a:cubicBezTo>
                  <a:pt x="0" y="114"/>
                  <a:pt x="5" y="147"/>
                  <a:pt x="5" y="162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187280" y="5864400"/>
            <a:ext cx="216000" cy="252360"/>
          </a:xfrm>
          <a:prstGeom prst="downArrow">
            <a:avLst>
              <a:gd name="adj1" fmla="val 57361"/>
              <a:gd name="adj2" fmla="val 45559"/>
            </a:avLst>
          </a:prstGeom>
          <a:solidFill>
            <a:srgbClr val="caffa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615960" y="5959440"/>
                <a:ext cx="2646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еуз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,</m:t>
                        </m:r>
                        <m:r>
                          <m:t xml:space="preserve"> </m:t>
                        </m:r>
                        <m:r>
                          <m:t xml:space="preserve">Σ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Σi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477720" y="2556000"/>
                <a:ext cx="509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455760" y="1976400"/>
                <a:ext cx="474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1104840" y="1951200"/>
                <a:ext cx="4381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689200" y="3625920"/>
                <a:ext cx="509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294000" y="2984400"/>
                <a:ext cx="438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645000" y="3716280"/>
                <a:ext cx="474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,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771640" y="4797360"/>
                <a:ext cx="14400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8" name=""/>
          <p:cNvSpPr/>
          <p:nvPr/>
        </p:nvSpPr>
        <p:spPr>
          <a:xfrm rot="2418000">
            <a:off x="2409840" y="4341600"/>
            <a:ext cx="200160" cy="774720"/>
          </a:xfrm>
          <a:prstGeom prst="downArrow">
            <a:avLst>
              <a:gd name="adj1" fmla="val 45019"/>
              <a:gd name="adj2" fmla="val 76120"/>
            </a:avLst>
          </a:prstGeom>
          <a:solidFill>
            <a:srgbClr val="caffa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556000" y="3979800"/>
            <a:ext cx="22320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вновес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стояние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го эле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4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0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3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6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9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2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6:55:03Z</dcterms:created>
  <dc:creator>User</dc:creator>
  <dc:description/>
  <dc:language>en-US</dc:language>
  <cp:lastModifiedBy>user</cp:lastModifiedBy>
  <dcterms:modified xsi:type="dcterms:W3CDTF">2011-02-10T13:51:03Z</dcterms:modified>
  <cp:revision>394</cp:revision>
  <dc:subject/>
  <dc:title>Слайд 1</dc:title>
</cp:coreProperties>
</file>